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BD8-902C-482F-9498-AB5549753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9E4A-6867-4A50-9EF1-C3419F650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1E38-05C6-46CA-8E91-ADC7F00C9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B61-A4B9-4B1A-A302-D6197147B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E6E-805A-4FF7-AF28-54F68376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8AF-C5C5-4986-AF55-03D812CE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B9AA-8C1D-4459-A2AF-1B83019DE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FE2C-5850-405A-9E09-36B8F49C3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7962-9E94-4742-AB19-2FAA3DA7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4BB-6295-4ED4-8DB3-94D85B58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560D-AB02-4EC1-8D77-A4F9A67DA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428-2CBD-4E0C-9089-20E07FCA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86D5-C076-4150-99CD-4A0F5E72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4811-A773-407F-8EF3-F9A012D5F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3571560"/>
            <a:ext cx="65530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4BDD-B473-409C-B251-89EC8AF07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8632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9CA9-71ED-4463-9E45-E9B99C3D0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44040" y="114300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9840" y="114300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357156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44040" y="357156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59840" y="3571560"/>
            <a:ext cx="210996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6B27-3367-4D15-9D8D-0EBD8F1B3F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ACDB-D7C0-4E39-BF28-1964CE9556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8DF0-810E-4CEE-ABD1-41D18FB25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88BF4-880C-4128-8A0A-85F336CB2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7740-F921-43C5-AE07-E3630ADAB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9680" y="304920"/>
            <a:ext cx="65516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3FD9-3992-4AFE-B612-DE8ADD06D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CE24-E4F2-483F-A3F7-EAC98FD64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86320" y="357156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9157-99A4-4F6F-88AD-B49787146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6320" y="1143000"/>
            <a:ext cx="31978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3571560"/>
            <a:ext cx="6553080" cy="22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EF90-4AA6-4B0D-A974-A395885A0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1" marL="230040" indent="-115560">
              <a:spcBef>
                <a:spcPts val="499"/>
              </a:spcBef>
              <a:buClr>
                <a:srgbClr val="000000"/>
              </a:buClr>
              <a:buFont typeface="Akkura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2" marL="512640" indent="-168120">
              <a:spcBef>
                <a:spcPts val="499"/>
              </a:spcBef>
              <a:buClr>
                <a:srgbClr val="000000"/>
              </a:buClr>
              <a:buFont typeface="Akkura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3" marL="679320" indent="231840">
              <a:spcBef>
                <a:spcPts val="499"/>
              </a:spcBef>
              <a:buClr>
                <a:srgbClr val="000000"/>
              </a:buClr>
              <a:buFont typeface="Akkurat-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4" marL="1482840" indent="-339840">
              <a:spcBef>
                <a:spcPts val="499"/>
              </a:spcBef>
              <a:buClr>
                <a:srgbClr val="000000"/>
              </a:buClr>
              <a:buFont typeface="Akkura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5" marL="1482840" indent="-339840">
              <a:spcBef>
                <a:spcPts val="499"/>
              </a:spcBef>
              <a:buClr>
                <a:srgbClr val="000000"/>
              </a:buClr>
              <a:buFont typeface="Akkura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lvl="6" marL="1482840" indent="-339840">
              <a:spcBef>
                <a:spcPts val="499"/>
              </a:spcBef>
              <a:buClr>
                <a:srgbClr val="000000"/>
              </a:buClr>
              <a:buFont typeface="Akkura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kkura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172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kkurat-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kkurat-Light"/>
              </a:rPr>
              <a:t>Application Development with Morfik and Firebi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kkurat"/>
              </a:rPr>
              <a:t>www.morfik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084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kkura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AB6-62DD-453D-AD60-6F3E33941292}" type="slidenum">
              <a:rPr b="0" lang="en-US" sz="1400" spc="-1" strike="noStrike">
                <a:solidFill>
                  <a:srgbClr val="ff0000"/>
                </a:solidFill>
                <a:latin typeface="Akkura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19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2520" y="17524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676520" cy="36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kkurat-Bold"/>
              </a:rPr>
              <a:t>Application Development with </a:t>
            </a:r>
            <a:br>
              <a:rPr sz="2800"/>
            </a:br>
            <a:r>
              <a:rPr b="0" lang="pt-BR" sz="2800" spc="-1" strike="noStrike">
                <a:solidFill>
                  <a:srgbClr val="ff0000"/>
                </a:solidFill>
                <a:latin typeface="Akkurat-Bold"/>
              </a:rPr>
              <a:t>Morfik and Firebird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kkurat-Bold"/>
              </a:rPr>
              <a:t>Mauricio Longo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6F43-600B-4666-92EE-A961E55D53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Highlights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2162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Visual Rapid Application Development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Relational Datab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(Firebird) 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Database Modeling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Reporting with PDF Generation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Multi-language Support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Multi-platform Suppor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5440" y="1143000"/>
            <a:ext cx="32162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JST – JavaScript Synthesis Technology 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Satellite Technology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All You Need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C421-FA5C-4BC6-8F5A-591A3D0E52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Conclusion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Increased developer productivity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(Familiar IDE, Language syntaxes, concepts, etc)</a:t>
            </a: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Freedom of choice 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(language syntaxes, controls, etc)</a:t>
            </a: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Royalty free application distribution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(Apache Core, Firebird Server)</a:t>
            </a: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New possibilities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(Unplugged Applications, Extended On-line Services, Mashups)</a:t>
            </a: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73D5-06D4-4975-8C40-FD055422E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Thank You!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484280"/>
            <a:ext cx="8443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More information is available at www.morfik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CA4F-4330-42BB-8DE6-047ADC8F8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kkurat-Bold"/>
              </a:rPr>
              <a:t>Agenda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Morfik – The Company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Vision 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Database Connectivity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Satellite Technology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Zero Deployment Cost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4419-A8C9-46B7-909B-8FB23EF4D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kkurat-Bold"/>
              </a:rPr>
              <a:t>Morfik – The Company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Started in the year 2000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Formally announced at the Web 2.0 Conference in October 2005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60D7-EA1B-41A2-B549-2D8400A430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The Web as a Platform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In 1994/1995 the transition from DOS to Windows became a reality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In 2004/2005 the transition from Windows to the Web became a reality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100% online application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Web-based Corporate Systems (ERP, CRM, custom, etc)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113B-7F3C-44A6-9158-C6C64FFDA6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Web Applications Unplugged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Have your on-line data with you, even when disconnected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Extend on-line applications and services 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Create local applications with a Web interfac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5334120" cy="300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5786280" y="2819520"/>
            <a:ext cx="2297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mall set of support files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needed for unplugged 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Zero deployment for tradit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ugged”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5FA1-568E-4399-A6EB-D0362DF53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Database Connectivity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Fully integrated Firebird Relational Database Server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ODBC Connectivity 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Native support for all the major databases*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IN-Medium"/>
              </a:rPr>
              <a:t>* Various stages of development and testing for different databases.</a:t>
            </a:r>
            <a:endParaRPr b="0" lang="en-US" sz="1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104D-4273-4666-963A-D5A767443D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Morfik’s Satellite Technology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Your data with you, on the move…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Extended access to on-line service data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Bidirectional database synchronization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Corporate Mashups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04D3-84BB-4314-926E-0377597A43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kkurat-Bold"/>
              </a:rPr>
              <a:t>Zero Deployment Cost</a:t>
            </a: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Applications built with Morfik are royalty free</a:t>
            </a: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Built-in Apache Web Server Core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(powers over 60% of the sites in the world)</a:t>
            </a: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IN-Medium"/>
              </a:rPr>
              <a:t>Fully integrated Firebird Relational Database Server</a:t>
            </a:r>
            <a:r>
              <a:rPr b="0" lang="en-US" sz="1400" spc="-1" strike="noStrike">
                <a:solidFill>
                  <a:srgbClr val="000000"/>
                </a:solidFill>
                <a:latin typeface="DIN-Medium"/>
              </a:rPr>
              <a:t> 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DIN-Medium"/>
              </a:rPr>
              <a:t>(Millions of successful deployments around the world (stock exchanges, Telcos, banks, etc)</a:t>
            </a: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8F31-371A-49C5-B0D0-7BF9CED11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9680" y="304920"/>
            <a:ext cx="65516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kkurat-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55308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kkurat-Bold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2637000"/>
            <a:ext cx="64008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N-Medium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25EF-A290-491A-BC04-F8F4B202FE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4:14:26Z</dcterms:created>
  <dc:creator>MORFIK</dc:creator>
  <dc:description/>
  <dc:language>en-US</dc:language>
  <cp:lastModifiedBy>Mauricio Longo</cp:lastModifiedBy>
  <dcterms:modified xsi:type="dcterms:W3CDTF">2006-11-13T10:30:34Z</dcterms:modified>
  <cp:revision>4</cp:revision>
  <dc:subject/>
  <dc:title>SLIDE HEADING</dc:title>
</cp:coreProperties>
</file>