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58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58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1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4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58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4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6FCF-7997-4C90-AE92-054EF926A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47B6-A3C4-4C57-967F-C6BF4A23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1040-C8B6-4E7C-A246-100597E9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F2C1-2F49-4E14-A089-2C26C3F1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FB3E-DD98-499D-B961-632E055F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58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6ED5-3D5C-4965-BF96-980AE17F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58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6C4C-C2F2-499F-B0CF-7500B5F7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D2C9-B342-48C4-B7E7-7C391852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58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3C51-7420-4F5F-BCEC-EBFD6163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58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FD74-5E40-4ED8-946D-46DF9B3A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58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CED2-E8EB-4C77-84AE-3ED2598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4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58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4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239D-4062-4429-8F44-D495BB3255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58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58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1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58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5160" y="214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65 Bold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utiger LT Std 65 Bold"/>
            </a:endParaRPr>
          </a:p>
        </p:txBody>
      </p:sp>
      <p:sp>
        <p:nvSpPr>
          <p:cNvPr id="1" name=""/>
          <p:cNvSpPr/>
          <p:nvPr/>
        </p:nvSpPr>
        <p:spPr>
          <a:xfrm>
            <a:off x="1068480" y="3048120"/>
            <a:ext cx="80769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f14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066680" y="5891040"/>
            <a:ext cx="2102040" cy="3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LT 65 Bol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80640" indent="-528120">
              <a:spcBef>
                <a:spcPts val="799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57560" indent="-452520">
              <a:spcBef>
                <a:spcPts val="799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3" marL="1734840" indent="-376920">
              <a:spcBef>
                <a:spcPts val="799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4" marL="2187360" indent="-376920">
              <a:spcBef>
                <a:spcPts val="799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5" marL="2187360" indent="-376920">
              <a:spcBef>
                <a:spcPts val="799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6" marL="2187360" indent="-376920">
              <a:spcBef>
                <a:spcPts val="799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695720" y="65530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utiger LT Std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9074-B78A-4524-8A59-5FC11D6614A1}" type="datetime">
              <a:rPr b="0" lang="en-US" sz="900" spc="-1" strike="noStrike">
                <a:solidFill>
                  <a:srgbClr val="000000"/>
                </a:solidFill>
                <a:latin typeface="Frutiger LT Std 45 Ligh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8457840" y="65530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utiger LT Std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 LT Std 45 Light"/>
              </a:rPr>
              <a:t>Page </a:t>
            </a:r>
            <a:fld id="{524FCBBD-2F0F-48D7-88B1-089951FC8380}" type="slidenum">
              <a:rPr b="0" lang="en-US" sz="9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8480" y="787320"/>
            <a:ext cx="80769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f14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57320" y="6508800"/>
            <a:ext cx="1305000" cy="23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G:\Output\ConnectionPerformance\ConnectionTest.ex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icrosoft.com/data" TargetMode="External"/><Relationship Id="rId2" Type="http://schemas.openxmlformats.org/officeDocument/2006/relationships/hyperlink" Target="http://www.ibprovider.com/" TargetMode="External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1198080"/>
            <a:ext cx="770436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 LT Std 65 Bold"/>
                <a:ea typeface="ＭＳ Ｐゴシック"/>
              </a:rPr>
              <a:t>Firebird Connectivity Tools or is there any performance loss out there</a:t>
            </a:r>
            <a:r>
              <a:rPr b="1" lang="en-US" sz="2800" spc="-1" strike="noStrike">
                <a:solidFill>
                  <a:srgbClr val="000000"/>
                </a:solidFill>
                <a:latin typeface="Frutiger LT Std 65 Bold"/>
                <a:ea typeface="ＭＳ Ｐゴシック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Frutiger LT Std 65 Bold"/>
                <a:ea typeface="ＭＳ Ｐゴシック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utiger LT Std 65 Bold"/>
                <a:ea typeface="ＭＳ Ｐゴシック"/>
              </a:rPr>
              <a:t>Alex Skvirsk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utiger LT Std 65 Bold"/>
                <a:ea typeface="ＭＳ Ｐゴシック"/>
              </a:rPr>
              <a:t>Software Designer/Supervis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utiger LT Std 65 Bold"/>
                <a:ea typeface="ＭＳ Ｐゴシック"/>
              </a:rPr>
              <a:t>Solutions Development Depart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utiger LT Std 65 Bold"/>
                <a:ea typeface="ＭＳ Ｐゴシック"/>
              </a:rPr>
              <a:t>RICOH Europe B.V., EDS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utiger LT Std 65 Bold"/>
                <a:ea typeface="ＭＳ Ｐゴシック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Frutiger LT Std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25360"/>
            <a:ext cx="6408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Connectivity tools feature matrix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32000" y="1844640"/>
          <a:ext cx="6192720" cy="4044960"/>
        </p:xfrm>
        <a:graphic>
          <a:graphicData uri="http://schemas.openxmlformats.org/drawingml/2006/table">
            <a:tbl>
              <a:tblPr/>
              <a:tblGrid>
                <a:gridCol w="1547640"/>
                <a:gridCol w="1549440"/>
                <a:gridCol w="1548000"/>
                <a:gridCol w="1547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ADO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OLE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Full data types support ( arrays, blobs.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ff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Vendor indepen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ff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Thread sa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ff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Resource poo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ff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Scripting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ff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ff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Heterogeneous queries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ff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Maximum 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Frutiger LT Std 45 Light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91B8-BE66-4EA9-B597-50E4CCD95A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07EAC-684D-4F9C-88E8-5B157945AF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DataSource control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Extended parameters support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Transaction control method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BeginTransaction(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CommitTransaction(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InTransaction(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RollbackTransaction(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3D9A-A942-4266-BFF4-B9DEF26D940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0E9F2-13C7-4128-9614-9AC5915709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Execution control method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Select statements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Other statements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I/O control method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Polimorphic read ( int, double, string,etc.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LT Std 45 Light"/>
              </a:rPr>
              <a:t>By index</a:t>
            </a:r>
            <a:endParaRPr b="0" lang="en-US" sz="20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LT Std 45 Light"/>
              </a:rPr>
              <a:t>By name</a:t>
            </a:r>
            <a:endParaRPr b="0" lang="en-US" sz="20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Polimorphic write ( int, double, string, etc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LT Std 45 Light"/>
              </a:rPr>
              <a:t>By index</a:t>
            </a:r>
            <a:endParaRPr b="0" lang="en-US" sz="20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LT Std 45 Light"/>
              </a:rPr>
              <a:t>By name</a:t>
            </a:r>
            <a:endParaRPr b="0" lang="en-US" sz="20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7760-B4EA-4982-8B25-CD3D25AB78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38868-4998-4E4D-9709-6F0FBECF23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Data Navigation method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Eof(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First(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Last(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Next(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CFE7-F727-4482-8DF5-2CCFE04B15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612AF-ADEA-414F-85D3-69AEC97702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Connectivity tools being investigated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Borland’s proprietary IBExpre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 (pure Interbase API based) connection suite</a:t>
            </a: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Borland’s proprietary implementation of Microsoft ADO connection (dbG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Pure OLE DB connection, based on the modified C++ connection classes’ suite, shipped together with the LCPI IBProvid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 OLEDB provider software package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990C-0290-4800-8666-5AD8FB9428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B3D28-7784-4F48-83FF-47B19D4ECA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rutiger LT Std 45 Light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Inte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 dual-core Duo 2 CPU running at 2 Ghz, 1Gb RAM 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rutiger LT Std 45 Light"/>
              </a:rPr>
              <a:t>Operating environment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Window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 2003 Server SP1 Standard Edition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Firebird 2.0 RC5 ( Now officially released !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rutiger LT Std 45 Light"/>
              </a:rPr>
              <a:t>Development tool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Borla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 Builder C++ Builder 6 Enterprise patched to a build #10.166.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IBExpe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 Development Studio 2006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E650-D8AF-41B4-8134-D1E1EED9EB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CC658-D863-463B-8F49-D5B37B26F2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Database schema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544500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nerated by IBExpert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281016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BDC7-3223-4DE5-96F8-0D2AF71265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D660F-B950-4C17-87FC-76B701A35F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8320" y="1676520"/>
            <a:ext cx="728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21" name=""/>
          <p:cNvSpPr/>
          <p:nvPr/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28195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1E7B-8794-4910-BF3A-75B06DFAD0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7A22E-4479-4E12-8396-5CE56380A8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Useful links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Frutiger LT Std 45 Light"/>
                <a:hlinkClick r:id="rId1"/>
              </a:rPr>
              <a:t>www.microsoft.com/data</a:t>
            </a: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Frutiger LT Std 45 Light"/>
                <a:ea typeface="ＭＳ Ｐゴシック"/>
                <a:hlinkClick r:id="rId2"/>
              </a:rPr>
              <a:t>www.ibprovider.com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E6D3-32BD-4F5C-98B7-040851EE90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F157B-A363-4322-AC75-4F5723237D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871B3-F2A2-47F6-B4A5-4888414D27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3E344-F814-4537-AB5A-420FBD42E7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utiger LT Std 45 Light"/>
              </a:rPr>
              <a:t>Who are we and what are our projects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utiger LT Std 45 Light"/>
              </a:rPr>
              <a:t>Customers’ requirements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utiger LT Std 45 Light"/>
              </a:rPr>
              <a:t>Fast Time To Market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utiger LT Std 45 Light"/>
              </a:rPr>
              <a:t>Minimal risk of investment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utiger LT Std 45 Light"/>
              </a:rPr>
              <a:t>Quick response time 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utiger LT Std 45 Light"/>
              </a:rPr>
              <a:t>PC compatible (mostly run under MS Window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en-GB" sz="2800" spc="-1" strike="noStrike">
                <a:solidFill>
                  <a:srgbClr val="000000"/>
                </a:solidFill>
                <a:latin typeface="Frutiger LT Std 45 Light"/>
              </a:rPr>
              <a:t> platform)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3071-5DEC-45CD-B079-A47B671AAF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83A6C-E59C-409D-B35C-0CC191D598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utiger LT Std 45 Light"/>
              </a:rPr>
              <a:t>Development strategy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Minimize development cycle time (1.5 -2 months of TPP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Maximize code base reuse ( libraries, technologies, etc.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Develop both Embedded and/or Client-Server based solutions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Interbase/Firbird as an interim database platform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able to support enterprise level RDBMS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666F-DF2D-4252-A73F-E075DB2852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69262-ACF6-4F4B-B71A-C4C7F80445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Frutiger LT Std 45 Light"/>
              </a:rPr>
              <a:t>Client-Server based solutions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60840" indent="-51732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utiger LT Std 45 Light"/>
              </a:rPr>
              <a:t>C++ code based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30200" indent="-44316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Window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 services running 24/7 mode 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30200" indent="-44316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2-tier applications with server-side business logic ( implemented via stored procedures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30200" indent="-44316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Multithreaded for maximum performance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30200" indent="-44316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Database connections by some solutions are shared between threads running in parallel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D475-9E45-4D5F-A415-196A67EB52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96436-5780-4449-826C-38509D2B1A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utiger LT Std 45 Light"/>
              </a:rPr>
              <a:t>Client-Server based solutions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utiger LT Std 45 Light"/>
              </a:rPr>
              <a:t>Java based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Web technology based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Based on ready-to-go Java frameworks (e.g.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2-tier architecture based on JDO)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Implicit/explicit transaction control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T Std 45 Light"/>
              </a:rPr>
              <a:t>Other technologies (EJB, JPA, etc ) under consideration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9B57-CA4D-413A-B5CD-ECA8B4918C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6484B-532C-47F4-B574-E236970267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Frutiger LT Std 45 Light"/>
              </a:rPr>
              <a:t>Performance is a crucial factor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Performance considerations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Choice of application desig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Choice of database schema desig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rutiger LT Std 45 Light"/>
              </a:rPr>
              <a:t>Choice of connectivity tool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837A-76BD-4E38-9B7F-710DD3DCB3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F5694-C8DC-4B30-85B5-8F1749245B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ts val="27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utiger LT Std 45 Light"/>
              </a:rPr>
              <a:t>C++ code database connectivity tools minimal requirements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Ease of client code encapsulatio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Maximum performance 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Database vendor independenc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  <a:ea typeface="ＭＳ Ｐゴシック"/>
              </a:rPr>
              <a:t>Thread-Safenes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8F6C-962B-4DCC-94A3-1B9D9DA593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D88C6-9785-4FAD-A665-B8DC2BD3A3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8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Frutiger LT Std 45 Light"/>
              </a:rPr>
              <a:t>Win32 based connectivity tools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Native API suite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ODBC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Most likely implemented under MS Window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utiger LT Std 45 Light"/>
                <a:ea typeface="ＭＳ Ｐゴシック"/>
              </a:rPr>
              <a:t>®</a:t>
            </a: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 via OLE DB calls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Compatibility issues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LT Std 45 Light"/>
              </a:rPr>
              <a:t>OLE DB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ADO DB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Pure OLE DB 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A4713-739B-433B-A5A2-784B7729C1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E38A2-3840-4BD4-AF4C-23C2697865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 LT 65 Bold"/>
                <a:ea typeface="ＭＳ Ｐゴシック"/>
              </a:rPr>
              <a:t>Firebird Connectivity Tools or is there any performance loss out there?</a:t>
            </a:r>
            <a:endParaRPr b="0" lang="en-US" sz="1800" spc="-1" strike="noStrike">
              <a:solidFill>
                <a:srgbClr val="000000"/>
              </a:solidFill>
              <a:latin typeface="Frutiger LT 65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8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09624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45000" y="5445000"/>
            <a:ext cx="65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LT Std 45 Light"/>
              </a:rPr>
              <a:t>Exerpt taken from LCPI IBProvider® help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98100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LT Std 45 Light"/>
              </a:rPr>
              <a:t>Flexibility of OLE DB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7861-D365-4912-8EC8-5761F6923E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40834-2BB9-410A-A7FB-97580ED763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8:26:04Z</dcterms:created>
  <dc:creator>Cecilia Hillergren</dc:creator>
  <dc:description/>
  <dc:language>en-US</dc:language>
  <cp:lastModifiedBy>user1</cp:lastModifiedBy>
  <dcterms:modified xsi:type="dcterms:W3CDTF">2006-11-13T11:38:38Z</dcterms:modified>
  <cp:revision>45</cp:revision>
  <dc:subject/>
  <dc:title>PowerPoint Presentation</dc:title>
</cp:coreProperties>
</file>