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3600" y="4293000"/>
            <a:ext cx="91900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360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276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0760" y="159228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77920" y="159228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3600" y="429300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0760" y="429300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77920" y="429300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2680" y="657360"/>
            <a:ext cx="9277200" cy="367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360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276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3600" y="4293000"/>
            <a:ext cx="91900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0280" y="28440"/>
            <a:ext cx="785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ession: 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Making your own Firebird PowerToo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™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with Python</a:t>
            </a: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peaker: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Pavel Císa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37640" y="7248600"/>
            <a:ext cx="11462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833B395-48CD-4983-BE31-1379267E5F7D}" type="slidenum">
              <a:rPr b="1" i="1" lang="en-GB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72320" y="7020000"/>
            <a:ext cx="2319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BPhoe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olsvil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3" marL="1727280" indent="-21600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4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5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6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6" name=""/>
          <p:cNvSpPr/>
          <p:nvPr/>
        </p:nvSpPr>
        <p:spPr>
          <a:xfrm>
            <a:off x="1066680" y="7254720"/>
            <a:ext cx="2319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rague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2514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Making your own Firebird PowerTool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(with Python)</a:t>
            </a:r>
            <a:endParaRPr b="1" lang="en-US" sz="60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avel Císa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BPhoe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Basic PowerTool</a:t>
            </a:r>
            <a:r>
              <a:rPr b="1" lang="cs-CZ" sz="4400" spc="-1" strike="noStrike">
                <a:solidFill>
                  <a:srgbClr val="ffffff"/>
                </a:solidFill>
                <a:latin typeface="Comic Sans MS"/>
              </a:rPr>
              <a:t>™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components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 of Classes to work with Data Model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adata encapsulation into object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uld be used independently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andControler and Commands Classe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defined and user-defined command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acts with Runtime Environment (uses Data Model)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27320" indent="-3204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I Controler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55000" indent="-28440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 console, GUI, Web-based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mposition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81770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3523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GUI Prototype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In Action</a:t>
            </a:r>
            <a:endParaRPr b="1" lang="en-US" sz="6600" spc="-1" strike="noStrike">
              <a:solidFill>
                <a:srgbClr val="ffffff"/>
              </a:solidFill>
              <a:latin typeface="Coolsvil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o you like what you saw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o why not take it a little bit further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5400" spc="-1" strike="noStrike">
              <a:solidFill>
                <a:srgbClr val="ffffff"/>
              </a:solidFill>
              <a:latin typeface="Coolsvil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onsider this…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’ll have all power of Python and Python library at your disposal to solve (almost) any problem.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wrap frequently used “solutions” into functions and classes for later use.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write your own commands.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r can modify and extend the UI to your needs.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embed it at (varius levels) into your own UI or application.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share anything from the above with others.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lnSpc>
                <a:spcPct val="101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lans for the future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 a project under Firebird umbrella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 ideas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and Enrich the Data Mod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nds for common task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ish the GUI front-end, create CLI and web-based one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SQL documentation into help system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it in standard Firebird distribution (at least on Windows)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Questions ? Comments ?</a:t>
            </a:r>
            <a:endParaRPr b="0" lang="en-US" sz="4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63600" y="990360"/>
            <a:ext cx="9190080" cy="57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101000"/>
              </a:lnSpc>
              <a:spcBef>
                <a:spcPts val="225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I thank you for your attention.</a:t>
            </a:r>
            <a:endParaRPr b="0" lang="en-US" sz="36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3376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749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Making You Ow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rebird PowerTool with Python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5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peaker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ave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ísař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5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Phoenix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5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you insan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is already a lot of quite powerfull tools to pick from, so why on Earth we should want to make our own?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y? Because all these tools…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hard to use, or…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n’t feature(s) you want, or…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not flexible enough, or…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hard to learn, or…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n’t work on your platform, or…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lle badly, or…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appoint you in any oter way.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57360"/>
            <a:ext cx="943128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nherent characteristics of existing tools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940104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 tool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ymbol" charset="2"/>
              <a:buChar char="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Flexible, multiplatform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tarSymbo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or presentation environment, not powerful enough (ISQL) or powerful, but outdated (QLI), hard to use or learn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ymbol" charset="2"/>
              <a:buChar char="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ch presentation environment, good for in-place changes and common tasks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tarSymbo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ale badly, WYSIWYG plague, Not very flexible, mostly Windows-only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-based tool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ymbol" charset="2"/>
              <a:buChar char="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atform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tarSymbo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orst from both worlds”</a:t>
            </a:r>
            <a:endParaRPr b="0" lang="en-US" sz="20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owerTool</a:t>
            </a:r>
            <a:r>
              <a:rPr b="1" lang="cs-CZ" sz="4400" spc="-1" strike="noStrike">
                <a:solidFill>
                  <a:srgbClr val="ffffff"/>
                </a:solidFill>
                <a:latin typeface="Comic Sans MS"/>
              </a:rPr>
              <a:t>™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 must…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vide easy and obvious way to do frequent tasks</a:t>
            </a:r>
            <a:endParaRPr b="0" lang="en-US" sz="40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n’t bother you with things you don’t want</a:t>
            </a:r>
            <a:endParaRPr b="0" lang="en-US" sz="40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e flexible to do almost anything you may want</a:t>
            </a:r>
            <a:endParaRPr b="0" lang="en-US" sz="40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elp you to achieve your goal</a:t>
            </a:r>
            <a:endParaRPr b="0" lang="en-US" sz="40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ther requirements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ltiplatform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vide set of “tools” for various tasks and means to combine them to solve more complex problem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vide various user interfaces (CLI, GUI, web-based, automation)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work with multiple databases simultaneously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ow easy data and metadata querying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ow use of results from data nad metadata query as input for other action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tensibl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ython to the rescue…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ltiplatform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Typed, bu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sy to learn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werful means to work with lists and dictionaries (and other data structures)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ge code repository for almost anything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braries to build various user interfaces (CLI, GUI, web-based, automation)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asily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mbeddable in user application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ow it would look like?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about interactive console/shell that will give you all power of Python interpreter and will also understand SQL and your own commands, and you can tailor it to your specific needs.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ill have several incarnations…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 console (ISQL on steroids) to run scripts and work over SSH with remote servers.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I console with tooltips, command completion, syntaxt hightlight, option dialogs, shortcuts and wizards.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application to work with databases hosted by your Webhosting Service Provider.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272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Basic PowerTool</a:t>
            </a:r>
            <a:r>
              <a:rPr b="1" lang="cs-CZ" sz="4400" spc="-1" strike="noStrike">
                <a:solidFill>
                  <a:srgbClr val="ffffff"/>
                </a:solidFill>
                <a:latin typeface="Comic Sans MS"/>
              </a:rPr>
              <a:t>™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design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uilt using Python Interpreter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rapped into Interactive Consol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apped into UI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  <p:pic>
        <p:nvPicPr>
          <p:cNvPr id="60" name="Wrapping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5334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vel Cisar</cp:lastModifiedBy>
  <dcterms:modified xsi:type="dcterms:W3CDTF">2006-11-05T14:34:18Z</dcterms:modified>
  <cp:revision>74</cp:revision>
  <dc:subject/>
  <dc:title>Introduction</dc:title>
</cp:coreProperties>
</file>