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8326438" cy="467995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2440" y="744480"/>
            <a:ext cx="66182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DDCB-6887-4507-B60F-FC0DE7918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2440" y="744480"/>
            <a:ext cx="6618240" cy="371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спода, коллеги, потенциальные заказчи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2440" y="744480"/>
            <a:ext cx="6618240" cy="37195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мы и госп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 удовольствием отвечу на все Ваши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636120"/>
            <a:ext cx="275436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2487240"/>
            <a:ext cx="275436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63612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03320" y="63612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248724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1903320" y="248724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636120"/>
            <a:ext cx="8866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72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23080" y="636120"/>
            <a:ext cx="8866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72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354400" y="636120"/>
            <a:ext cx="8866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72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2487240"/>
            <a:ext cx="8866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72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423080" y="2487240"/>
            <a:ext cx="8866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72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2354400" y="2487240"/>
            <a:ext cx="8866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72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636120"/>
            <a:ext cx="2754360" cy="35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636120"/>
            <a:ext cx="2754360" cy="35434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636120"/>
            <a:ext cx="1343880" cy="35434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1903320" y="636120"/>
            <a:ext cx="1343880" cy="35434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47524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63612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903320" y="636120"/>
            <a:ext cx="1343880" cy="35434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248724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636120"/>
            <a:ext cx="1343880" cy="35434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903320" y="63612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3320" y="248724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63612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903320" y="636120"/>
            <a:ext cx="134388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90000"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2487240"/>
            <a:ext cx="2754360" cy="16902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8326440" cy="467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1760" y="636120"/>
            <a:ext cx="2754360" cy="35434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 fontScale="59000"/>
          </a:bodyPr>
          <a:p>
            <a:pPr marL="184320" indent="-1843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98880" indent="-153720">
              <a:spcBef>
                <a:spcPts val="726"/>
              </a:spcBef>
              <a:buSzPct val="100000"/>
              <a:buBlip>
                <a:blip r:embed="rId4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613080" indent="-122400">
              <a:spcBef>
                <a:spcPts val="726"/>
              </a:spcBef>
              <a:buSzPct val="100000"/>
              <a:buBlip>
                <a:blip r:embed="rId5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859680" indent="-123480">
              <a:spcBef>
                <a:spcPts val="726"/>
              </a:spcBef>
              <a:buSzPct val="100000"/>
              <a:buBlip>
                <a:blip r:embed="rId6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22400">
              <a:spcBef>
                <a:spcPts val="726"/>
              </a:spcBef>
              <a:buSzPct val="100000"/>
              <a:buBlip>
                <a:blip r:embed="rId7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22400">
              <a:spcBef>
                <a:spcPts val="726"/>
              </a:spcBef>
              <a:buSzPct val="100000"/>
              <a:buBlip>
                <a:blip r:embed="rId8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22400">
              <a:spcBef>
                <a:spcPts val="726"/>
              </a:spcBef>
              <a:buSzPct val="100000"/>
              <a:buBlip>
                <a:blip r:embed="rId9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43760" y="4462560"/>
            <a:ext cx="128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www.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varda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26440" cy="4681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68840" y="2052720"/>
            <a:ext cx="352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no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E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POWER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79760" y="3635280"/>
            <a:ext cx="38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George Menkov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EST BEN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" y="1289160"/>
            <a:ext cx="2232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normAutofit/>
          </a:bodyPr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uters   (6 users per ea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08000"/>
            <a:ext cx="8327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5410080" y="253692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5410080" y="73656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940120" y="755640"/>
            <a:ext cx="23018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127E-007 -6.5852E-007 L 0.05187 -0.41107 E">
                                      <p:cBhvr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27400" y="1116000"/>
            <a:ext cx="4888080" cy="2757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MULATI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REAL CORPORATION 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1400" y="900000"/>
            <a:ext cx="2592360" cy="338472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marL="3128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86677"/>
              <a:buBlip>
                <a:blip r:embed="rId2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billio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€ turn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86677"/>
              <a:buBlip>
                <a:blip r:embed="rId3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concurrent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86677"/>
              <a:buBlip>
                <a:blip r:embed="rId4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000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86677"/>
              <a:buBlip>
                <a:blip r:embed="rId5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 items in the price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86677"/>
              <a:buBlip>
                <a:blip r:embed="rId6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 sales per day in the period of 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08000"/>
            <a:ext cx="8327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127E-007 -6.5852E-007 L -0.04214 -0.41378 E">
                                      <p:cBhvr>
                                        <p:cTn id="25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27400" y="1116000"/>
            <a:ext cx="488808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MULATI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REAL CORPORATION 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08000"/>
            <a:ext cx="8327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371600"/>
            <a:ext cx="259236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normAutofit/>
          </a:bodyPr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atabase size is 120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 million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concurrent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bran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127E-007 -6.5852E-007 L -0.04214 -0.41378 E">
                                      <p:cBhvr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1760" y="1284120"/>
            <a:ext cx="24480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normAutofit/>
          </a:bodyPr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days of demon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 new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 new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ool-2006 Mosc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35120"/>
            <a:ext cx="832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000" y="2124000"/>
            <a:ext cx="8327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OOL 200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363760" y="746280"/>
            <a:ext cx="5778360" cy="35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0465E-006 -4.94908E-006 L 0.03565 -0.4501 E">
                                      <p:cBhvr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35120"/>
            <a:ext cx="832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908000"/>
            <a:ext cx="8327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2951" r="2952" b="5533"/>
          <a:stretch/>
        </p:blipFill>
        <p:spPr>
          <a:xfrm>
            <a:off x="3227400" y="722160"/>
            <a:ext cx="4772160" cy="3610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1760" y="1284120"/>
            <a:ext cx="22320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bran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300mb traffic per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127E-007 0.00034 L 0.04024 -0.41005 E">
                                      <p:cBhvr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475240" cy="57168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ctr">
            <a:noAutofit/>
          </a:bodyPr>
          <a:p>
            <a:pPr indent="0" algn="r"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ank you for attenti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044720"/>
            <a:ext cx="8327880" cy="223200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rmAutofit/>
          </a:bodyPr>
          <a:p>
            <a:pPr marL="312840" indent="0" algn="ctr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ru-RU" sz="5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marL="3128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43040" y="3564000"/>
            <a:ext cx="6480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George Menkov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NSOF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5:59:48Z</dcterms:created>
  <dc:creator>Синицын К.М.</dc:creator>
  <dc:description/>
  <dc:language>en-US</dc:language>
  <cp:lastModifiedBy>Paul Beach</cp:lastModifiedBy>
  <dcterms:modified xsi:type="dcterms:W3CDTF">2006-11-14T10:01:54Z</dcterms:modified>
  <cp:revision>593</cp:revision>
  <dc:subject/>
  <dc:title>AVARDA</dc:title>
</cp:coreProperties>
</file>