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416A-CDCB-4617-9C71-8FE60E3BC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094D-EDD3-4A79-9736-1F7E02323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A605-BF7F-49EF-8229-7B353BE31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81E0-65D4-47FD-BD21-44F3F42F1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FCEA-6C6E-4BF4-86B4-9408D20C1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F301-DC4E-4016-89F9-05F370BE7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3DF1-413A-421F-BCCA-414200809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A7B0-FF5C-425E-A391-456C4BBBD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E605-5488-4EB0-82CE-E9D68A5B3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5FCB-8DAF-4324-AF7A-59822D14B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1B73-9895-4A1B-B910-B8EF711F4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0A27-CA12-4E20-9738-98F61FF7AE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290320" y="7039080"/>
            <a:ext cx="31942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9840" y="0"/>
            <a:ext cx="30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ssion: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LNRY-OTQ305-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aker: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mitry Yema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481880" y="7039080"/>
            <a:ext cx="234648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30780-71F0-4AB5-A3D6-E221902C7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001000" y="7021440"/>
            <a:ext cx="1828800" cy="476640"/>
            <a:chOff x="8001000" y="7021440"/>
            <a:chExt cx="1828800" cy="476640"/>
          </a:xfrm>
        </p:grpSpPr>
        <p:sp>
          <p:nvSpPr>
            <p:cNvPr id="7" name=""/>
            <p:cNvSpPr/>
            <p:nvPr/>
          </p:nvSpPr>
          <p:spPr>
            <a:xfrm>
              <a:off x="8920080" y="7250040"/>
              <a:ext cx="9050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01000" y="7021440"/>
              <a:ext cx="182880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Tahoma"/>
                </a:rPr>
                <a:t>The Firebird Pro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6000"/>
                </a:lnSpc>
                <a:spcBef>
                  <a:spcPts val="575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ffff00"/>
                  </a:solidFill>
                  <a:latin typeface="Tahoma"/>
                </a:rPr>
                <a:t>Slide </a:t>
              </a:r>
              <a:fld id="{1C1E2F36-1A50-40C9-82AB-1804BF2CFD1F}" type="slidenum">
                <a:rPr b="1" lang="en-GB" sz="1200" spc="-1" strike="noStrike">
                  <a:solidFill>
                    <a:srgbClr val="ffff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rebirdsql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685800"/>
            <a:ext cx="907236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Firebird 2.x and 3.0: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he Foreseeable Future</a:t>
            </a: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ssion: PLNRY-OTQ305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4343400"/>
            <a:ext cx="907236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mitry Yem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rebird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irebirdsq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ew release strategy (shortened release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rge the mainstream with experimental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to Ex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lobal temporar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on table expressions and hierarch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ext blobs as strings, INTL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mains in P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ERGE and REPLACE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2.1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to Expect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atabase 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in64 and Solaris64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rver activity monitoring, query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-instancing 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ized network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Q4 2006: Beta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Q2 2007: Final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ive multi-threade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piled query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ization for larg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ustering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procedures and functions, SQ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data sources and cross-databa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hanced metadata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3.0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eature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ew data access paths and optimiz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i-directional index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ustomizable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onal activity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onal database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Q2 2007: Beta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Q4 2007: Final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's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able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dvanced caching and optimization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WAL (write-ahead log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urther network protocol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M (pluggable authentication mod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onal network protocol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's Next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etter support of SQL: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chemas and lo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groups (aggregated privile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ITR (point-in-time reco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ulk load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QL debugging 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ed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ment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8889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eliability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Quick bugf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uaranteed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re robus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erformance and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fective large databas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ull SMP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ized caching and data access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ment Prioritie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lexible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ystem monitoring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ctivity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owerful server 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Q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ew language enhancement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rict compliance with the SQ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QL interface to the administr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2.0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rger! Faster! Strong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o 36 gigabytes table size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rger page cache siz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64-bit platform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cremental online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mproved optim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aster index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re powerful garbag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lexible database shutdown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2.0 Review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Q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erived tables, PSQL cursors, new built-in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-defined contex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DL: COMMENT, SET/DROP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ML: EXECUTE BLOCK, INSERT ... RE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ore secure password h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tected access to the secur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xed a number of external vulner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irebird 2.0 Review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Languag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CU (IBM's International Components for Uni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ew UTF-8 implementation and UNICODE col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-byte character set fixes and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PPER/LOWER do not require a COLLATE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llations for text blobs, lengt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New character sets and co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perimental Code 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Vul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ified architectur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superserver, classic and embedde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 a single package on all platfor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e-grained multi-threading with a share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ustomizable authentic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server level or database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QL-based us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lexible server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perimental Code Branche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8889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0920" indent="-25092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y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lobal temporar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on table expressions and hierarchical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procedures and functions (Java and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87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rusted authentication in Windows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atabase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048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ized network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xperimental Code Branches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9640" y="1619280"/>
            <a:ext cx="162108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B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700360"/>
            <a:ext cx="162108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B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9640" y="3780000"/>
            <a:ext cx="162108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79640" y="4859280"/>
            <a:ext cx="162108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B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79640" y="5940360"/>
            <a:ext cx="162108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2160720"/>
            <a:ext cx="162108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f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3240000"/>
            <a:ext cx="162072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y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9640" y="4319640"/>
            <a:ext cx="1620720" cy="360360"/>
          </a:xfrm>
          <a:prstGeom prst="flowChartProcess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ul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2" idx="2"/>
            <a:endCxn id="63" idx="0"/>
          </p:cNvCxnSpPr>
          <p:nvPr/>
        </p:nvCxnSpPr>
        <p:spPr>
          <a:xfrm>
            <a:off x="3688920" y="1979640"/>
            <a:ext cx="2520" cy="7214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3688920" y="3060720"/>
            <a:ext cx="2520" cy="72000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2" name=""/>
          <p:cNvCxnSpPr>
            <a:stCxn id="64" idx="2"/>
            <a:endCxn id="65" idx="0"/>
          </p:cNvCxnSpPr>
          <p:nvPr/>
        </p:nvCxnSpPr>
        <p:spPr>
          <a:xfrm>
            <a:off x="3688920" y="4140000"/>
            <a:ext cx="2520" cy="7196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3" name=""/>
          <p:cNvCxnSpPr>
            <a:stCxn id="65" idx="2"/>
            <a:endCxn id="66" idx="0"/>
          </p:cNvCxnSpPr>
          <p:nvPr/>
        </p:nvCxnSpPr>
        <p:spPr>
          <a:xfrm>
            <a:off x="3688920" y="5219640"/>
            <a:ext cx="2520" cy="721440"/>
          </a:xfrm>
          <a:prstGeom prst="bentConnector3">
            <a:avLst>
              <a:gd name="adj1" fmla="val 50000"/>
            </a:avLst>
          </a:prstGeom>
          <a:ln w="360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flipH="1">
            <a:off x="1328400" y="1800360"/>
            <a:ext cx="15555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2519280"/>
            <a:ext cx="1440" cy="25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3954600"/>
            <a:ext cx="1547640" cy="1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332000" y="5022360"/>
            <a:ext cx="15476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3440" y="1800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287964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2879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600360"/>
            <a:ext cx="1440" cy="25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495320" y="5033520"/>
            <a:ext cx="152100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95320" y="6114600"/>
            <a:ext cx="152100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3959280"/>
            <a:ext cx="3916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16800" y="3960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4240" y="6119640"/>
            <a:ext cx="391644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10680" y="468144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