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096C-1951-4A44-9FDE-2621705E8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see IBTM Viewer (beta) that shows gathered information. On that picture is one day transaction statistics taken from carpet stock/shop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ook some time for us to understand how information can be most understandable, so what you see maybe is not a final ver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's check this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ctive" transactions count – this is not real active transactions count, since this is Next-OAT difference. Real transaction count is lower, but line can tell us what happening with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est transaction – can be "locked" by rollback or "garbage" is versions that have transaction numbers lower than 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ing many different statistics by IBAnalyst we found read-committed transaction behavior that you see on diagram as Oldest snapshot transaction number is lower than Oldest transaction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versions between Oldest Snapshot transaction and Oldest Active transaction is not a garbage. But could be if that system hadn't long trans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, in common we can say about this system: there are long-running transactions, mostly read-committed, average transactions per day is 32k, working time is from ~9AM to ~5PM, but some applications still have active transactions. Also there are "connection lost" errors locking Oldest transaction number. At the and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 database potentially have lot of garbage record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right at design-time. It can be too late to rewrite applications that works bad with transactions, when system will go into production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13FD-73BD-4945-9439-B2B5CB10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C046-DCB0-4080-AA79-6207360C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7B70-CFE3-43E8-AEDB-905D4B42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C3AC-A758-467B-96DB-72A8B55A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278D-FC8A-4ABE-8FFB-C0ABF171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FD3E-4C10-4716-9359-5BFE4010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7535-6688-48F8-B2F3-289D8FE9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4BBA-6062-4032-9472-4DF3D06C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10CE-8DE6-483D-AFAE-C4233564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845E-7C0A-4C41-B4EE-74A9EBA5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FC49-3801-43CD-ACC7-5D521A31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38E-B44C-448B-BC23-4D3E99B3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2094-4947-48B0-BD91-7EC951DA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BA7E-BCCC-45C7-8B2B-F524C8BD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747F-07A7-4278-B6C7-616DD941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1263-3B85-469B-8A25-9EDFB697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A255-8D77-43F1-807E-88860A8D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C28C-E68B-442A-B7AD-8C8FCD47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2C7-E707-4030-AE94-DBD251E2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1F7-9C7C-492B-AE37-C7B1E3AE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3D5A-668D-4EBB-9AAE-3871487E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8C8-185B-4340-9488-E2C6B482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4147-B0BD-4EC5-ADF3-9E57C230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5EB-A7E9-4636-A830-353F2C36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D978-F909-4FEC-8CB8-1F04E275A0D1}" type="slidenum">
              <a:rPr b="0" lang="ru-RU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2C31-C305-4B0B-BAAC-22A75CB909D7}" type="slidenum">
              <a:rPr b="0" lang="ru-RU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560" y="2707920"/>
            <a:ext cx="77216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 Black"/>
              </a:rPr>
              <a:t>Optimizing Server Performance</a:t>
            </a:r>
            <a:br>
              <a:rPr sz="4000"/>
            </a:b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26920" y="501336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mitry Kuzmenko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ww.ib-aid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Software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d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Server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bird.con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 RAM – 2 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777080" cy="5140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Usual transactions mov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059280" y="2708280"/>
            <a:ext cx="4392000" cy="1871640"/>
            <a:chOff x="3059280" y="2708280"/>
            <a:chExt cx="4392000" cy="1871640"/>
          </a:xfrm>
        </p:grpSpPr>
        <p:sp>
          <p:nvSpPr>
            <p:cNvPr id="119" name=""/>
            <p:cNvSpPr/>
            <p:nvPr/>
          </p:nvSpPr>
          <p:spPr>
            <a:xfrm>
              <a:off x="6946920" y="4148280"/>
              <a:ext cx="504360" cy="43164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59280" y="2708280"/>
              <a:ext cx="2879280" cy="863640"/>
            </a:xfrm>
            <a:prstGeom prst="wedgeRectCallout">
              <a:avLst>
                <a:gd name="adj1" fmla="val 90185"/>
                <a:gd name="adj2" fmla="val 144851"/>
              </a:avLst>
            </a:prstGeom>
            <a:solidFill>
              <a:srgbClr val="ffff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dCommit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action 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ldest &gt; Oldest snapsh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667640" y="2924280"/>
            <a:ext cx="431640" cy="1654200"/>
          </a:xfrm>
          <a:prstGeom prst="upDownArrow">
            <a:avLst>
              <a:gd name="adj1" fmla="val 50000"/>
              <a:gd name="adj2" fmla="val 762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3573360"/>
            <a:ext cx="2087640" cy="1008000"/>
          </a:xfrm>
          <a:prstGeom prst="wedgeRectCallout">
            <a:avLst>
              <a:gd name="adj1" fmla="val 216009"/>
              <a:gd name="adj2" fmla="val -336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garb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2492280"/>
            <a:ext cx="1873080" cy="1224000"/>
          </a:xfrm>
          <a:prstGeom prst="wedgeRectCallout">
            <a:avLst>
              <a:gd name="adj1" fmla="val 146865"/>
              <a:gd name="adj2" fmla="val 86444"/>
            </a:avLst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st locked by rollback or “connection los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916360" y="2492280"/>
            <a:ext cx="3816360" cy="2087280"/>
            <a:chOff x="2916360" y="2492280"/>
            <a:chExt cx="3816360" cy="2087280"/>
          </a:xfrm>
        </p:grpSpPr>
        <p:sp>
          <p:nvSpPr>
            <p:cNvPr id="125" name=""/>
            <p:cNvSpPr/>
            <p:nvPr/>
          </p:nvSpPr>
          <p:spPr>
            <a:xfrm>
              <a:off x="6444000" y="2923920"/>
              <a:ext cx="288720" cy="1655640"/>
            </a:xfrm>
            <a:prstGeom prst="upDownArrow">
              <a:avLst>
                <a:gd name="adj1" fmla="val 50000"/>
                <a:gd name="adj2" fmla="val 11415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16360" y="2492280"/>
              <a:ext cx="1727280" cy="1008000"/>
            </a:xfrm>
            <a:prstGeom prst="wedgeRectCallout">
              <a:avLst>
                <a:gd name="adj1" fmla="val 162314"/>
                <a:gd name="adj2" fmla="val 89055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transa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Transaction activity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396200" cy="534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724360" y="2924280"/>
            <a:ext cx="1511640" cy="718920"/>
          </a:xfrm>
          <a:prstGeom prst="wedgeRectCallout">
            <a:avLst>
              <a:gd name="adj1" fmla="val -180041"/>
              <a:gd name="adj2" fmla="val 2546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ctivity at lun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Real active transactions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9640" y="1276200"/>
            <a:ext cx="7396200" cy="5345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564000" y="4653000"/>
            <a:ext cx="576360" cy="360360"/>
          </a:xfrm>
          <a:prstGeom prst="leftRightArrow">
            <a:avLst>
              <a:gd name="adj1" fmla="val 50000"/>
              <a:gd name="adj2" fmla="val 318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2924280"/>
            <a:ext cx="1079640" cy="720720"/>
          </a:xfrm>
          <a:prstGeom prst="wedgeRectCallout">
            <a:avLst>
              <a:gd name="adj1" fmla="val 108824"/>
              <a:gd name="adj2" fmla="val 212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n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33720"/>
            <a:ext cx="1584360" cy="647640"/>
          </a:xfrm>
          <a:prstGeom prst="wedgeRectCallout">
            <a:avLst>
              <a:gd name="adj1" fmla="val -104912"/>
              <a:gd name="adj2" fmla="val -143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active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Perfect applications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write or snapshot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d read commit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 transaction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ransaction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files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allocated by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s – bitmap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Questions?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4005360"/>
            <a:ext cx="8240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b-aid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bsurge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bdeveloper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Agenda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What is RDBMS?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Disk tasks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ing, Ind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–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mp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p –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[database -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–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ackup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up –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atabase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reate indices (t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HDD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2276640"/>
            <a:ext cx="1512720" cy="180000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43280" y="2276640"/>
            <a:ext cx="1512720" cy="180000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2276640"/>
            <a:ext cx="1512720" cy="180000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2276640"/>
            <a:ext cx="1513080" cy="180000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12139E-006 L 0.2283 0.35653 E">
                                      <p:cBhvr>
                                        <p:cTn id="1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04046E-006 L -0.24011 0.35144 E">
                                      <p:cBhvr>
                                        <p:cTn id="2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What RAID to use?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D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us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n’t fail-saf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mirrorin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D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and mirr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D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afety (no performance incre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Best choice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A or SC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D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-6-disk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+ VM +TE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 10 (4 disks) or RAID 5 (3 disks) for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 DISK for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Logical disks?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– for 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 – for 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DOW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have sense – raid 5, raid 10, nbackup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Tools to analyze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An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s, versions, records, i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dyna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st Snaps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st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2T17:52:26Z</dcterms:created>
  <dc:creator>Dmitri Kouzmenko</dc:creator>
  <dc:description/>
  <dc:language>en-US</dc:language>
  <cp:lastModifiedBy>Дмитрий Кузьменко</cp:lastModifiedBy>
  <cp:lastPrinted>2005-11-11T21:17:23Z</cp:lastPrinted>
  <dcterms:modified xsi:type="dcterms:W3CDTF">2006-11-27T10:40:28Z</dcterms:modified>
  <cp:revision>108</cp:revision>
  <dc:subject/>
  <dc:title>InterBase и Firebird: Развитие и перспективы</dc:title>
</cp:coreProperties>
</file>