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FD45-86A9-47EE-8B5B-1CA5D81C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see IBTM Viewer (beta) that shows gathered information. On that picture is one day transaction statistics taken from carpet stock/shop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ome time for us to understand how information can be most understandable, so what you see maybe is not a final 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's check thi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ctive" transactions count – this is not real active transactions count, since this is Next-OAT difference. Real transaction count is lower, but line can tell us what happening with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st transaction – can be "locked" by rollback or "garbage" is versions that have transaction numbers lower than 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ing many different statistics by IBAnalyst we found read-committed transaction behavior that you see on diagram as Oldest snapshot transaction number is lower than Oldest transactio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versions between Oldest Snapshot transaction and Oldest Active transaction is not a garbage. But could be if that system hadn't long trans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n common we can say about this system: there are long-running transactions, mostly read-committed, average transactions per day is 32k, working time is from ~9AM to ~5PM, but some applications still have active transactions. Also there are "connection lost" errors locking Oldest transaction number. At the a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database potentially have lot of garbage record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right at design-time. It can be too late to rewrite applications that works bad with transactions, when system will go into production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BC5-D694-43DD-9504-65396444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7A9-CA1D-46E5-A02B-5326034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B89-2466-47F3-B214-8D6C952F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95D-5ACC-44B8-BB5B-957D84E0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C25-96EE-4F5E-A09F-50410390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623-C004-40F0-AED1-4BC6451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10A3-5E54-4AB3-B02F-2FB897B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11AD-7BAB-4ECF-ADCA-A601C667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09D-7F4B-4048-A417-919F1E4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134E-0258-459D-9DBF-22BED8C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3F5D-5D15-4950-B6B3-00017D0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D1D-497A-4526-9AE4-395CE55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4EB2-0ABA-4902-B7E8-B8314D2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8C30-9558-4017-8BE3-C139DA5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42EA-BEDB-4361-AC5C-6B0766E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CAF-574F-42FC-AE94-42971E03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2229-AB43-4079-B236-14184D78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445-44EF-40D3-8F1F-C6E14005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A0E-D4E7-46A0-8B12-FF60984A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A61-33D4-436A-B81C-BA1B0AB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2E2-3063-474C-BEAB-B6D02AFB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59F-CF96-44D7-9461-EC00BC4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296-AF5D-4E51-8CA6-CAC189C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9EF-08A7-4476-94F2-43BAAD0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7A74-575A-4AF4-8947-A9D2B9F4C816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7887-7B78-45A1-A6B7-BEDC1897F3A8}" type="slidenum">
              <a:rPr b="0" lang="ru-RU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721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 Black"/>
              </a:rPr>
              <a:t>Optimizing Server Performance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013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mitry Kuzmenko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ww.ib-aid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Softwar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d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Server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.co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RAM – 2 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140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sual transactions mov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59280" y="2708280"/>
            <a:ext cx="4392000" cy="1871640"/>
            <a:chOff x="3059280" y="2708280"/>
            <a:chExt cx="4392000" cy="1871640"/>
          </a:xfrm>
        </p:grpSpPr>
        <p:sp>
          <p:nvSpPr>
            <p:cNvPr id="119" name=""/>
            <p:cNvSpPr/>
            <p:nvPr/>
          </p:nvSpPr>
          <p:spPr>
            <a:xfrm>
              <a:off x="6946920" y="4148280"/>
              <a:ext cx="504360" cy="4316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708280"/>
              <a:ext cx="2879280" cy="863640"/>
            </a:xfrm>
            <a:prstGeom prst="wedgeRectCallout">
              <a:avLst>
                <a:gd name="adj1" fmla="val 90185"/>
                <a:gd name="adj2" fmla="val 144851"/>
              </a:avLst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Commit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on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ldest &gt; Oldest snapsh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67640" y="2924280"/>
            <a:ext cx="431640" cy="1654200"/>
          </a:xfrm>
          <a:prstGeom prst="upDownArrow">
            <a:avLst>
              <a:gd name="adj1" fmla="val 50000"/>
              <a:gd name="adj2" fmla="val 762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3573360"/>
            <a:ext cx="2087640" cy="1008000"/>
          </a:xfrm>
          <a:prstGeom prst="wedgeRectCallout">
            <a:avLst>
              <a:gd name="adj1" fmla="val 216009"/>
              <a:gd name="adj2" fmla="val -3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gar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492280"/>
            <a:ext cx="1873080" cy="1224000"/>
          </a:xfrm>
          <a:prstGeom prst="wedgeRectCallout">
            <a:avLst>
              <a:gd name="adj1" fmla="val 146865"/>
              <a:gd name="adj2" fmla="val 86444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st locked by rollback or “connection lo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16360" y="2492280"/>
            <a:ext cx="3816360" cy="2087280"/>
            <a:chOff x="2916360" y="2492280"/>
            <a:chExt cx="3816360" cy="2087280"/>
          </a:xfrm>
        </p:grpSpPr>
        <p:sp>
          <p:nvSpPr>
            <p:cNvPr id="125" name=""/>
            <p:cNvSpPr/>
            <p:nvPr/>
          </p:nvSpPr>
          <p:spPr>
            <a:xfrm>
              <a:off x="6444000" y="2923920"/>
              <a:ext cx="288720" cy="1655640"/>
            </a:xfrm>
            <a:prstGeom prst="upDownArrow">
              <a:avLst>
                <a:gd name="adj1" fmla="val 50000"/>
                <a:gd name="adj2" fmla="val 11415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16360" y="2492280"/>
              <a:ext cx="1727280" cy="1008000"/>
            </a:xfrm>
            <a:prstGeom prst="wedgeRectCallout">
              <a:avLst>
                <a:gd name="adj1" fmla="val 162314"/>
                <a:gd name="adj2" fmla="val 89055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rans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Transaction activity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396200" cy="534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24360" y="2924280"/>
            <a:ext cx="1511640" cy="718920"/>
          </a:xfrm>
          <a:prstGeom prst="wedgeRectCallout">
            <a:avLst>
              <a:gd name="adj1" fmla="val -180041"/>
              <a:gd name="adj2" fmla="val 254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ctivity at lun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Real active transaction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1276200"/>
            <a:ext cx="7396200" cy="534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564000" y="4653000"/>
            <a:ext cx="576360" cy="360360"/>
          </a:xfrm>
          <a:prstGeom prst="leftRightArrow">
            <a:avLst>
              <a:gd name="adj1" fmla="val 50000"/>
              <a:gd name="adj2" fmla="val 318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924280"/>
            <a:ext cx="1079640" cy="720720"/>
          </a:xfrm>
          <a:prstGeom prst="wedgeRectCallout">
            <a:avLst>
              <a:gd name="adj1" fmla="val 108824"/>
              <a:gd name="adj2" fmla="val 212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33720"/>
            <a:ext cx="1584360" cy="647640"/>
          </a:xfrm>
          <a:prstGeom prst="wedgeRectCallout">
            <a:avLst>
              <a:gd name="adj1" fmla="val -104912"/>
              <a:gd name="adj2" fmla="val -143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activ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Perfect application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e or snapshot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 read commi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transaction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ransac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files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llocated b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es – bitmap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4005360"/>
            <a:ext cx="8240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-ai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surg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ibdevelop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genda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What is RDBMS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isk tasks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ing,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mp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[database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ackup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tabase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reate indices (t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HDD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276640"/>
            <a:ext cx="151272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2276640"/>
            <a:ext cx="151272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276640"/>
            <a:ext cx="151272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276640"/>
            <a:ext cx="1513080" cy="180000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2139E-006 L 0.2283 0.35653 E">
                                      <p:cBhvr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04046E-006 L -0.24011 0.35144 E">
                                      <p:cBhvr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What RAID to use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u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n’t fail-saf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irrorin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and 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afety (no performance in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est choic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A or SC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6-disk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+ VM +TE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 10 (4 disks) or RAID 5 (3 disks) for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 DISK for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Logical disks?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– for 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– for 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have sense – raid 5, raid 10, nback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Tools to analyz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, versions, records,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 Snap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7:52:26Z</dcterms:created>
  <dc:creator>Dmitri Kouzmenko</dc:creator>
  <dc:description/>
  <dc:language>en-US</dc:language>
  <cp:lastModifiedBy>Дмитрий Кузьменко</cp:lastModifiedBy>
  <cp:lastPrinted>2005-11-11T21:17:23Z</cp:lastPrinted>
  <dcterms:modified xsi:type="dcterms:W3CDTF">2006-11-27T10:40:28Z</dcterms:modified>
  <cp:revision>108</cp:revision>
  <dc:subject/>
  <dc:title>InterBase и Firebird: Развитие и перспективы</dc:title>
</cp:coreProperties>
</file>