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0585480093676815"/>
          <c:y val="0.0372318481848185"/>
          <c:w val="0.97407736412824"/>
          <c:h val="0.942553630363036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Value 'A'</c:v>
                </c:pt>
              </c:strCache>
            </c:strRef>
          </c:tx>
          <c:spPr>
            <a:solidFill>
              <a:srgbClr val="ff99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83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30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Value 'B'</c:v>
                </c:pt>
              </c:strCache>
            </c:strRef>
          </c:tx>
          <c:spPr>
            <a:solidFill>
              <a:srgbClr val="800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83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50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Value 'C'</c:v>
                </c:pt>
              </c:strCache>
            </c:strRef>
          </c:tx>
          <c:spPr>
            <a:solidFill>
              <a:srgbClr val="6666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83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50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Value 'D'</c:v>
                </c:pt>
              </c:strCache>
            </c:strRef>
          </c:tx>
          <c:spPr>
            <a:solidFill>
              <a:srgbClr val="6b4794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83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10</c:v>
                </c:pt>
              </c:numCache>
            </c:numRef>
          </c:val>
        </c:ser>
        <c:gapWidth val="100"/>
        <c:overlap val="0"/>
        <c:axId val="80235140"/>
        <c:axId val="65084404"/>
      </c:barChart>
      <c:catAx>
        <c:axId val="80235140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939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65084404"/>
        <c:crossesAt val="0"/>
        <c:auto val="1"/>
        <c:lblAlgn val="ctr"/>
        <c:lblOffset val="100"/>
        <c:noMultiLvlLbl val="0"/>
      </c:catAx>
      <c:valAx>
        <c:axId val="65084404"/>
        <c:scaling>
          <c:orientation val="minMax"/>
        </c:scaling>
        <c:delete val="0"/>
        <c:axPos val="l"/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939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80235140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243A-E1CA-40F5-BEFC-DD2B73A73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1ACD-4A11-4E44-B8DC-A1BFB27D4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206E-E5DE-4057-AF24-4870F35EC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6F19-052C-4698-A379-1B78E52746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B95E-D2D5-4CAD-A59C-C6D2B07256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A72A-BD9F-48BA-A725-C2571E0CE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69D3-9C26-4BBF-89A9-2C8D894F5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97BE-BA16-4FF7-A43E-4C44C649C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53AD-B24B-4445-BAD0-EFF36A8CF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9AF5-1150-43FB-8F8D-77DECA7B4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96D4-F6F1-4AD9-9EA6-9C8EAD9D5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89FF-B1FA-4728-B3BB-1A34A1BCE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90320" y="7039080"/>
            <a:ext cx="319428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9840" y="0"/>
            <a:ext cx="30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ssion: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NTRN-OPL202-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aker: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mitry Yema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481880" y="7039080"/>
            <a:ext cx="234648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C442A-1442-4B77-AFBE-9919AFB41E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001000" y="7021440"/>
            <a:ext cx="1828800" cy="476640"/>
            <a:chOff x="8001000" y="7021440"/>
            <a:chExt cx="1828800" cy="476640"/>
          </a:xfrm>
        </p:grpSpPr>
        <p:sp>
          <p:nvSpPr>
            <p:cNvPr id="7" name=""/>
            <p:cNvSpPr/>
            <p:nvPr/>
          </p:nvSpPr>
          <p:spPr>
            <a:xfrm>
              <a:off x="8920080" y="7250040"/>
              <a:ext cx="905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01000" y="7021440"/>
              <a:ext cx="182880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The Firebird 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spcBef>
                  <a:spcPts val="57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00"/>
                  </a:solidFill>
                  <a:latin typeface="Tahoma"/>
                </a:rPr>
                <a:t>Slide </a:t>
              </a:r>
              <a:fld id="{24778A91-417B-4F70-9B96-57BB973C096A}" type="slidenum">
                <a:rPr b="1" lang="en-GB" sz="1200" spc="-1" strike="noStrike">
                  <a:solidFill>
                    <a:srgbClr val="ffff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rebirdsql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685800"/>
            <a:ext cx="907236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Cost-based Optimization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nd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tatistics</a:t>
            </a:r>
            <a:br>
              <a:rPr sz="4000"/>
            </a:br>
            <a:br>
              <a:rPr sz="4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ssion: INTRN-OPL202-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4343400"/>
            <a:ext cx="907236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mitry Yem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ebir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firebirdsq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re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Number of Rows in a Table (Base Cardin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mall tabl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umber of used record slots on the data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arge tabl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umber of used data pages / average record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stimated at runtim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a scanning pointer or data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re Statistic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ndex Sel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 / number of distinct keys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aintained per segment: (A), (A, B),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sumes uniform distribution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culated during index creation or upon reques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SET STATISTICS stat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ored on the index roo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sible in RDB$INDICES and RDB$INDEX_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cisions Based on Core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ll Table Scan over Indexed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lectivity close to 1.0 suggests a full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ndices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e index selectivities and index sca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nsider segment operations for compound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culate selectivities for AND and OR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rder of Streams in Loop 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culate costs for different join order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nd choose the bes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vanced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abl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erage page fil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erage row length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both help with a better base cardinality esti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umber of row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allows to avoid the runtime pages scan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vanced Statistic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ndex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-tree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erage key length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both help with a better cost estimation for index sc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lustering factor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allows to prefer an index navig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ver an external sort under some conditions;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lso could be used to avoid filling the sparse bit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ustering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18288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 Ke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27432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 Ke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6576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 Ke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54864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 Ke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45720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 Ke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8288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g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7432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ge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6576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ge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54864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ge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5720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ge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27432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g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36576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ge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4572000"/>
            <a:ext cx="1600200" cy="457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g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512800" y="2055960"/>
            <a:ext cx="1603080" cy="1831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512800" y="3884760"/>
            <a:ext cx="1603080" cy="1831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12800" y="4800600"/>
            <a:ext cx="1603080" cy="9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12800" y="2057400"/>
            <a:ext cx="1603080" cy="9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512800" y="2971800"/>
            <a:ext cx="1603080" cy="1828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0574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29718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8862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48006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715000" y="4799160"/>
            <a:ext cx="1600200" cy="91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6400800"/>
            <a:ext cx="2643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d Clustering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6400800"/>
            <a:ext cx="2814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Clustering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7920" y="6407280"/>
            <a:ext cx="1440" cy="309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vanced Statistic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olum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lectivit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core feature, required to estimate co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umber of NULL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useful for selectivity estimations for IS [NOT]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lue distribution histogram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allows selectivity estimations for non-uniform value distrib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ample Hist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44560"/>
          <a:ext cx="8915400" cy="287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5" name=""/>
          <p:cNvSpPr/>
          <p:nvPr/>
        </p:nvSpPr>
        <p:spPr>
          <a:xfrm>
            <a:off x="291960" y="2201760"/>
            <a:ext cx="422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960" y="2693880"/>
            <a:ext cx="422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B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960" y="3225960"/>
            <a:ext cx="433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C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960" y="3735360"/>
            <a:ext cx="433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2160" y="6172200"/>
            <a:ext cx="82296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" y="60580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365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09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41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653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797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085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373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51760" y="6064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2880" y="5630760"/>
            <a:ext cx="8696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            5            5            5           10           20          50           50          80     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371600"/>
            <a:ext cx="3160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Non-Selective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4000" y="4970520"/>
            <a:ext cx="2579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Selective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cisions Based on Advanced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ort Aggregation vs Hash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lectivity of columns being group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oop Join vs Merge Join vs Hash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rdinality of tables and filtering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ndex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umber of NULLs or hist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ndex Navigation vs External S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luster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ptimizer decides how to find all the information required in the most efficient way it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ifferent queries and/or fetch strategies may benefit from different data access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information should exist in order to help the optimizer in guessing about the best acces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ptimiz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ule-based (heu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t-based (stat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ule-bas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Heuristical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dexed retrieval is better than a full table sca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and indexed loop join is better than a merge jo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-tree has three levels of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pound indices are better than simp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dices could be bad for som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intentions are not take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ot ready for “ad hoc”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st-bas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very operation has an associated cos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t value is calculated using statist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t is aggregated from bottom up in the acces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plex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low optim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quires up-to-dat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sic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el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presents a fraction of rows from a row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ies in the value range 0.0 to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rdi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presents number of rows in a row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ase cardinality is the number of rows in a bas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nderstanding of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s a function of the estimated cardi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presents computational complexity of the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t value linearly depends on the number of logical reads required to perform an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ogical read is equal to a single page f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t value may also take into account auxiliary steps such as an external 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st Measurement (ex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ll tabl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t = base cardi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Unique index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t = b-tree level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ange index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t = b-tree level + N + selectivity * base cardinalit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N represents the number of the required leaf page fetches and thus depends on the average key 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st Aggregation (ex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371600"/>
            <a:ext cx="18288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 Row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= 9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14600"/>
            <a:ext cx="18288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= 9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5943600"/>
            <a:ext cx="18288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=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657600"/>
            <a:ext cx="18288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= 7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5943600"/>
            <a:ext cx="18288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 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800600"/>
            <a:ext cx="18288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= 6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715000" y="5484960"/>
            <a:ext cx="137160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7085160" y="5484960"/>
            <a:ext cx="137448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86600" y="4341960"/>
            <a:ext cx="144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086600" y="2055960"/>
            <a:ext cx="144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086600" y="3198960"/>
            <a:ext cx="144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1800" y="1828800"/>
            <a:ext cx="4398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LEC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ROM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OIN T2 ON T1.PK = T2.F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RE T1.VAL + T2.VAL &lt;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DER BY T1.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nformation describing data amounts and  distribution of values on different level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(table, index, colum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tored in a database or estimated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ollected by request or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