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jpeg" ContentType="image/jpeg"/>
  <Override PartName="/ppt/media/image1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8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9A059-8CAC-49FC-8C67-9AA0DC2056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еобходимо расписать каждое повреждение на отдельном слайде – с картинкой, текстом об ошибке и заключением, может ли автоматически лечить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CB37-F777-4A77-9815-60F40FC2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C422-413A-414A-837C-06B1E01D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165E-352E-4E77-B537-C00A4B8A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9712-875F-40D5-9167-6383ABB8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93EB-5AFF-4C68-8801-19EE4FD9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7D59-3D05-4B33-9104-AA0AEA8D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B431-621F-4D2F-A6DC-0F82DECE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6349-C428-4261-A344-E967BC7B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E30B-B31C-401A-86AF-13A6928E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E841-1347-44EF-B690-9C49834E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A7C3-3D9E-4BD5-8466-C6459440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1F37-B795-41D1-971E-636A338B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D024-C5DE-4CC6-8A4E-F37023A7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75FC-FDF5-41ED-B7EC-EA960E3C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AFFD-23F2-42EF-944E-62C60252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5323-7154-4510-9831-5CA71061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D4DE-5B55-458A-9386-D4B932D0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7267E-4CA4-4291-8D23-B92DF519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18F08-8B93-461F-886B-63F71590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94FB7-2B7F-41AD-9513-EEFA05DD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3488C-C53B-492C-81BC-9D595EFA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8406C-19EC-4400-B494-FC3F4289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FE3F-F506-46CF-A6CE-E0FA8216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BF4D7-658B-40E5-A6F6-5459DB4B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4DE06-7BCC-46C1-826A-F53979CC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7B61D-FCCF-4FB1-8B78-47973F31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A4B28-46F5-4354-BB3F-005E313A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B121A-1CBD-4309-AFF1-AC682EF0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CC4F9-64B0-4331-8393-3DC1716D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3715C-6D02-43D8-AB9E-D75DB07F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BD335-4D92-4424-B0CB-A39985AA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8506B-B870-44E5-9806-ED25486B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A92EE-A704-4B6F-9F20-D3DA64A2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093D-2530-42D7-953F-079AB616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3CFB8-E560-4FDE-A405-28A55D7B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9933B-7905-475E-857B-98045743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07E07-67D8-4D78-8127-7BF15C0D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3DFAF-B48B-425B-94B8-49817746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C8D16-AD20-4995-9297-43A3F253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5B531-BE14-4F0E-80DF-560CC889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E832E-2024-4AE2-8078-0E0900B9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8A0BE-7723-48ED-8DA4-3412D9D2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7BE20-F0B6-46C6-B7E8-98015437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235-055D-4CC7-A067-5E82FCDB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7E1C-5FBE-442A-B609-946196E8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DFC-DE62-471F-BFC0-E2B5067A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7D40-B8AF-4DD4-AD56-90E13ABB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775-B90D-4FDF-BC90-2DC9AE7C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91A95-B612-4E26-8A55-241215EE65B6}" type="slidenum">
              <a:rPr b="0" lang="ru-RU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A71E6-86C6-44D3-B4A0-4A23B9E634EE}" type="slidenum">
              <a:rPr b="0" lang="ru-RU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FF8D8-D440-4A34-A8A1-513BEC1B33C8}" type="slidenum">
              <a:rPr b="0" lang="ru-RU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D5523-0A67-4459-A46C-9F072CAF4FF1}" type="slidenum">
              <a:rPr b="0" lang="ru-RU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2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99640" y="2060280"/>
            <a:ext cx="772164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 Black"/>
              </a:rPr>
              <a:t>Database Health and Corruption</a:t>
            </a:r>
            <a:br>
              <a:rPr sz="4000"/>
            </a:br>
            <a:r>
              <a:rPr b="0" lang="en-US" sz="1800" spc="-1" strike="noStrike">
                <a:solidFill>
                  <a:srgbClr val="000066"/>
                </a:solidFill>
                <a:latin typeface="Arial Black"/>
              </a:rPr>
              <a:t>Damage t</a:t>
            </a:r>
            <a:r>
              <a:rPr b="0" lang="en-GB" sz="1800" spc="-1" strike="noStrike">
                <a:solidFill>
                  <a:srgbClr val="000066"/>
                </a:solidFill>
                <a:latin typeface="Arial Black"/>
              </a:rPr>
              <a:t>ypes, Causes, Repair</a:t>
            </a:r>
            <a:endParaRPr b="0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268360" y="5373720"/>
            <a:ext cx="6400800" cy="10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mitry Kuzmenko,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ib-aid.co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Data storage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7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compress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 R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fra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3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Record compression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80280" cy="22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ong record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ompression overran 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3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Record fragments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80280" cy="17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records on different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al records and fragment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t fragments or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3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Record versions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80280" cy="29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how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A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versions can be near or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rror: Cannot find back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phan record 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Orphan pages and records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integrity is checked by Page Inventory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age allocated, but not in PIP – it’s an orp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phan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9960" y="228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amage typ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39092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-level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is lost at the end of db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F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t of pages are damage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led wi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0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ken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-level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blobs are broken or can’t be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ong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800600" y="533520"/>
          <a:ext cx="40370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533520"/>
                    <a:ext cx="40370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952880" y="2286000"/>
          <a:ext cx="328464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2286000"/>
                    <a:ext cx="32846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 flipV="1">
            <a:off x="3505320" y="1827360"/>
            <a:ext cx="1218960" cy="46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581280" y="2893680"/>
            <a:ext cx="137160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257800" y="4114800"/>
          <a:ext cx="3181320" cy="196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114800"/>
                    <a:ext cx="318132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 flipV="1">
            <a:off x="4038480" y="5027400"/>
            <a:ext cx="114300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aus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35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er b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o mainte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igration problems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7.1 – 7.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.5 upgrades ODS to 11.2. 7.1 does not suppor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Repair</a:t>
            </a:r>
            <a:r>
              <a:rPr b="0" lang="ru-RU" sz="3600" spc="-1" strike="noStrike">
                <a:solidFill>
                  <a:srgbClr val="000066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air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data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air isn’t ma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’t turn nothing t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expensive and low reason to repair hardly damaged D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5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elf-repair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 Black"/>
              </a:rPr>
              <a:t>isql, gfix and gbak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sq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est tool to access corrupted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n’t touch unneeded 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s explicit transa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y work with system t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fi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nd fix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ru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op firebird.log before running gfix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e with IBFirstAID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/o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IBSurge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ba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b –g –v -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g ! without garbage col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ig ignore checks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IBDataPump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ally moves data to another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bles trig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gen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acket in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s missing primary key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Agenda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base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ruption typ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ruption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air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IBFirstAID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3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-level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s all lings at pa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s links to record fragments and back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diagnose - IBFirstAID Diagnostic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FirstAID repairs up to 80% damag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IBBackupSurgeon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se/read backup – data &amp; meta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read broken backup - skip damaged objects o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re selected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The Rules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backup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metadata restore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restore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use –v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IBSurgeon Tools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300720" y="4581360"/>
            <a:ext cx="1497240" cy="2016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1496880" cy="2035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708360" y="2825640"/>
            <a:ext cx="1496880" cy="2016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6300720" y="1773360"/>
            <a:ext cx="1497240" cy="2016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1042920" y="4581360"/>
            <a:ext cx="14972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Questions</a:t>
            </a:r>
            <a:r>
              <a:rPr b="0" lang="ru-RU" sz="4000" spc="-1" strike="noStrike">
                <a:solidFill>
                  <a:srgbClr val="000066"/>
                </a:solidFill>
                <a:latin typeface="Arial Black"/>
              </a:rPr>
              <a:t>?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b-aid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bsurgeo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developer.blogspo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bdeveloper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3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DB Structure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4038480" cy="38862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4833720"/>
            <a:ext cx="8180280" cy="14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s like peo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b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e to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990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28600" y="1066680"/>
          <a:ext cx="4419720" cy="332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066680"/>
                    <a:ext cx="4419720" cy="33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Page types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4259160" cy="49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re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d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action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ge Inventory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tor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inter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x Roo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x B-tree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483160" y="955800"/>
          <a:ext cx="3129120" cy="52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3160" y="955800"/>
                    <a:ext cx="312912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 flipV="1">
            <a:off x="4343400" y="1598400"/>
            <a:ext cx="1066680" cy="12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343400" y="4570560"/>
            <a:ext cx="106668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167652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4419720"/>
            <a:ext cx="533160" cy="1523880"/>
          </a:xfrm>
          <a:custGeom>
            <a:avLst/>
            <a:gdLst>
              <a:gd name="textAreaLeft" fmla="*/ 0 w 533160"/>
              <a:gd name="textAreaRight" fmla="*/ 192600 w 5331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 Black"/>
              </a:rPr>
              <a:t>Barebone damage </a:t>
            </a:r>
            <a:br>
              <a:rPr sz="3600"/>
            </a:br>
            <a:r>
              <a:rPr b="0" lang="en-GB" sz="3600" spc="-1" strike="noStrike">
                <a:solidFill>
                  <a:srgbClr val="000066"/>
                </a:solidFill>
                <a:latin typeface="Arial Black"/>
              </a:rPr>
              <a:t>(from easy to hard)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38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t transaction state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not find TIP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t root page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root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er pageLost data pag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DB$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maged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a valid datab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orruption cases – by type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2520" y="1890720"/>
          <a:ext cx="836136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890720"/>
                    <a:ext cx="836136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orruption repairs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889280"/>
          <a:ext cx="8337600" cy="47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89280"/>
                    <a:ext cx="8337600" cy="47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orruptions – by version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" y="1886040"/>
          <a:ext cx="817884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86040"/>
                    <a:ext cx="817884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Table corruptions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27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t data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of file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ken pag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cted page type X, found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t pointe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митрий Кузьменко</cp:lastModifiedBy>
  <dcterms:modified xsi:type="dcterms:W3CDTF">2006-11-27T10:39:08Z</dcterms:modified>
  <cp:revision>54</cp:revision>
  <dc:subject/>
  <dc:title>Повреждения баз данных</dc:title>
</cp:coreProperties>
</file>