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84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1015668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FA25-1351-461F-9DAA-1CB44E983D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2B95-F8D0-48A5-A513-9F036F85B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BB4F-6608-4B80-B0AC-DC775AC26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2605-DCB3-4DA7-9A58-E51247DA1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0406-303D-4E34-B862-3E864D8E1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72EA-1800-4A58-921D-8DD2ECF9E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C2A6-3306-4C5F-ADB3-09535DB11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8197-D9FD-4A7B-A67F-3100B28C2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063F-E66B-407F-9E9C-6700F3666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6AE7-8848-463C-ADC4-76FCF37EC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768B-CE56-4E1A-96BB-A40683FB7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08E6-9CD3-451E-AB3F-8EF745EAB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A2E8-4769-4C79-9D02-F039C041E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90320" y="7038720"/>
            <a:ext cx="3189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9840" y="0"/>
            <a:ext cx="30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ssion: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N-QTZ2304-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aker: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rg Vostrik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481880" y="7038720"/>
            <a:ext cx="23414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707C9-AFD8-49C1-97ED-16F61F298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001000" y="7021440"/>
            <a:ext cx="1828800" cy="476640"/>
            <a:chOff x="8001000" y="7021440"/>
            <a:chExt cx="1828800" cy="476640"/>
          </a:xfrm>
        </p:grpSpPr>
        <p:sp>
          <p:nvSpPr>
            <p:cNvPr id="7" name=""/>
            <p:cNvSpPr/>
            <p:nvPr/>
          </p:nvSpPr>
          <p:spPr>
            <a:xfrm>
              <a:off x="8920080" y="7250040"/>
              <a:ext cx="905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01000" y="7021440"/>
              <a:ext cx="182880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The Firebird 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spcBef>
                  <a:spcPts val="57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ff00"/>
                  </a:solidFill>
                  <a:latin typeface="Tahoma"/>
                </a:rPr>
                <a:t>Slide </a:t>
              </a:r>
              <a:fld id="{9D2FA2B0-3F3F-41C2-9AF9-CAC8E00DD02B}" type="slidenum">
                <a:rPr b="1" lang="en-GB" sz="1200" spc="-1" strike="noStrike">
                  <a:solidFill>
                    <a:srgbClr val="ffff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85800"/>
            <a:ext cx="90723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Managing Firebird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ransactions with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FIBPlus</a:t>
            </a: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ssion: CONN-QTZ2304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4343400"/>
            <a:ext cx="907236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rg Vostr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O of Dev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72036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READ COMMITTED in multi-transaction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short updating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SHANPSHOT carefu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SNAPSHOT TABLE STABILITY for exclusiv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separate transaction mode for better server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READ COMMITTED in separate transaction mode for re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Use (WAIT and NO_REC_VERSION) or (NO_WAIT and REC_VERSION) for updating transaction in separate transaction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250640"/>
            <a:ext cx="90723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's time for your questions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855360"/>
            <a:ext cx="907236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very much!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g Vostrikov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-mail: sv@devrace.com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ttp://www.devrace.com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actio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action among different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parate transactions in FIBPlus data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tectedEdit mode in FIB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wo-phas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ested Firebir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3000"/>
              </a:lnSpc>
              <a:buNone/>
              <a:tabLst>
                <a:tab algn="l" pos="0"/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nsaction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ccess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sol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ocking permiss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able rese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cess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ead (isc_tpb_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(isc_tpb_wr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olation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17840" y="2238480"/>
          <a:ext cx="68878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7840" y="2238480"/>
                    <a:ext cx="6887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ocking permission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ait (isc_tpb_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No wait (isc_tpb_no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committed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o not use isc_tpb_wait mode when using long transactions (isc_tpb_wait is used by default in Firebir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o not use isc_tpb_no_rec_version together with с isc_tpb_nowait if you have long transactions or many clients who work with you database (isc_tpb_no_rec_version is used by default in Firebi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How to reserve 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sc_tpb_lock_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sc_tpb_lock_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sc_tpb_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sc_tpb_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246240"/>
                <a:tab algn="l" pos="693720"/>
                <a:tab algn="l" pos="1143000"/>
                <a:tab algn="l" pos="1592280"/>
                <a:tab algn="l" pos="2041560"/>
                <a:tab algn="l" pos="2490840"/>
                <a:tab algn="l" pos="2940120"/>
                <a:tab algn="l" pos="3389400"/>
                <a:tab algn="l" pos="3838680"/>
                <a:tab algn="l" pos="4287960"/>
                <a:tab algn="l" pos="4737240"/>
                <a:tab algn="l" pos="5186520"/>
                <a:tab algn="l" pos="5635800"/>
                <a:tab algn="l" pos="6084720"/>
                <a:tab algn="l" pos="6534000"/>
                <a:tab algn="l" pos="6983280"/>
                <a:tab algn="l" pos="7432560"/>
                <a:tab algn="l" pos="7881840"/>
                <a:tab algn="l" pos="8331120"/>
                <a:tab algn="l" pos="8780400"/>
                <a:tab algn="l" pos="9229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sc_tpb_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Dmitry Kouzmenko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write or snapshot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ad only, read commit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58960"/>
                <a:tab algn="l" pos="1306440"/>
                <a:tab algn="l" pos="1755720"/>
                <a:tab algn="l" pos="2205000"/>
                <a:tab algn="l" pos="2654280"/>
                <a:tab algn="l" pos="3103560"/>
                <a:tab algn="l" pos="3552840"/>
                <a:tab algn="l" pos="4002120"/>
                <a:tab algn="l" pos="4451400"/>
                <a:tab algn="l" pos="4900680"/>
                <a:tab algn="l" pos="5349960"/>
                <a:tab algn="l" pos="5799240"/>
                <a:tab algn="l" pos="6248520"/>
                <a:tab algn="l" pos="6697800"/>
                <a:tab algn="l" pos="7147080"/>
                <a:tab algn="l" pos="7596360"/>
                <a:tab algn="l" pos="8045280"/>
                <a:tab algn="l" pos="8494560"/>
                <a:tab algn="l" pos="8943840"/>
                <a:tab algn="l" pos="9393120"/>
                <a:tab algn="l" pos="98424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xplicit transaction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