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658B-8597-4887-91EE-A7B1FE0A1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3571560"/>
            <a:ext cx="65530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C146-0BF3-4DC3-8814-06B4B6654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6320" y="114300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357156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86320" y="357156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52492-89BD-4CCA-8E44-67AFC84D1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10996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44040" y="1143000"/>
            <a:ext cx="210996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9840" y="1143000"/>
            <a:ext cx="210996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3571560"/>
            <a:ext cx="210996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44040" y="3571560"/>
            <a:ext cx="210996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59840" y="3571560"/>
            <a:ext cx="210996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FE20-6323-4E07-A313-CD4199284C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86F9-61D6-4A7E-801F-584E68081C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455F3-5437-4D8F-A7B5-25C5CEDBC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1978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86320" y="1143000"/>
            <a:ext cx="31978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517B-18DF-46F3-BCC1-61CA830A0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ACF4-D3A6-42E4-9C8B-A577D09BA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9680" y="304920"/>
            <a:ext cx="65516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6ADA-FF82-438C-A8E6-719314EAE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86320" y="1143000"/>
            <a:ext cx="31978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357156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9BE5B-F91B-4A98-A1FC-9C15FBDB0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1978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86320" y="114300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86320" y="357156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C246-B105-4D65-85F6-C284D7C5F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86320" y="114300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3571560"/>
            <a:ext cx="65530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697A5-7C3F-48CB-96D7-E5D911EBD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kkurat-Bold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lvl="1" marL="230040" indent="-115560">
              <a:spcBef>
                <a:spcPts val="499"/>
              </a:spcBef>
              <a:buClr>
                <a:srgbClr val="000000"/>
              </a:buClr>
              <a:buFont typeface="Akkura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lvl="2" marL="512640" indent="-168120">
              <a:spcBef>
                <a:spcPts val="499"/>
              </a:spcBef>
              <a:buClr>
                <a:srgbClr val="000000"/>
              </a:buClr>
              <a:buFont typeface="Akkura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lvl="3" marL="679320" indent="231840">
              <a:spcBef>
                <a:spcPts val="499"/>
              </a:spcBef>
              <a:buClr>
                <a:srgbClr val="000000"/>
              </a:buClr>
              <a:buFont typeface="Akkurat-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lvl="4" marL="1482840" indent="-339840">
              <a:spcBef>
                <a:spcPts val="499"/>
              </a:spcBef>
              <a:buClr>
                <a:srgbClr val="000000"/>
              </a:buClr>
              <a:buFont typeface="Akkura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lvl="5" marL="1482840" indent="-339840">
              <a:spcBef>
                <a:spcPts val="499"/>
              </a:spcBef>
              <a:buClr>
                <a:srgbClr val="000000"/>
              </a:buClr>
              <a:buFont typeface="Akkura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lvl="6" marL="1482840" indent="-339840">
              <a:spcBef>
                <a:spcPts val="499"/>
              </a:spcBef>
              <a:buClr>
                <a:srgbClr val="000000"/>
              </a:buClr>
              <a:buFont typeface="Akkura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1722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kkurat-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kkurat-Light"/>
              </a:rPr>
              <a:t>Firebird Conference 2006 - Pr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kkurat"/>
              </a:rPr>
              <a:t>www.morfik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60840" y="617220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kkura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8C9E-4A8B-4291-B436-C83A444E4410}" type="slidenum">
              <a:rPr b="0" lang="en-US" sz="1400" spc="-1" strike="noStrike">
                <a:solidFill>
                  <a:srgbClr val="ff0000"/>
                </a:solidFill>
                <a:latin typeface="Akkura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962520" y="17524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676520" cy="36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435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kkurat-Bold"/>
              </a:rPr>
              <a:t>Supporting Complex Online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kkurat-Bold"/>
              </a:rPr>
              <a:t>Systems with Satellite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kkurat-Bold"/>
              </a:rPr>
              <a:t>Databases</a:t>
            </a: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4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Mauricio Longo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38680" y="3733920"/>
            <a:ext cx="3200400" cy="15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99735-D4D1-483C-A349-0D4E602BF6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1080" y="2141640"/>
            <a:ext cx="5805720" cy="3649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kkurat-Bold"/>
              </a:rPr>
              <a:t>The Satellite concept </a:t>
            </a:r>
            <a:r>
              <a:rPr b="0" lang="pt-BR" sz="1000" spc="-1" strike="noStrike">
                <a:solidFill>
                  <a:srgbClr val="ff0000"/>
                </a:solidFill>
                <a:latin typeface="Akkurat-Bold"/>
              </a:rPr>
              <a:t>(continued)</a:t>
            </a:r>
            <a:endParaRPr b="0" lang="en-US" sz="10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Satellites can be multi-layered even when orbiting more than one Primary system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2057400"/>
            <a:ext cx="1752840" cy="53352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Primary System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In-houser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8880" y="5334120"/>
            <a:ext cx="1371600" cy="4870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First Level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1828800" cy="4874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Pri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Online Servi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4724280"/>
            <a:ext cx="1828800" cy="4874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Second level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Satelli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DFB4-7843-4593-81DB-4126A24EBC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05120" y="3274920"/>
            <a:ext cx="5202000" cy="2516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kkurat-Bold"/>
              </a:rPr>
              <a:t>Applying Satellites to online systems</a:t>
            </a:r>
            <a:endParaRPr b="0" lang="en-US" sz="24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Satellites can offload processing for specific task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Multiple Satellites can be used to distribute the data read load to multiple server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3960720"/>
            <a:ext cx="1752480" cy="53352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kkurat"/>
              </a:rPr>
              <a:t>Ad hoc</a:t>
            </a: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 query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2970360"/>
            <a:ext cx="1828800" cy="4870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Pri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Online Servi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5027760"/>
            <a:ext cx="1371600" cy="4870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Reporting Satelli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5DC40-D1E8-40E4-BD51-A9B399ECA8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05120" y="3274920"/>
            <a:ext cx="2438280" cy="1179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kkurat-Bold"/>
              </a:rPr>
              <a:t>Applying Satellites to online systems </a:t>
            </a:r>
            <a:r>
              <a:rPr b="0" lang="pt-BR" sz="1000" spc="-1" strike="noStrike">
                <a:solidFill>
                  <a:srgbClr val="ff0000"/>
                </a:solidFill>
                <a:latin typeface="Akkurat-Bold"/>
              </a:rPr>
              <a:t>(continued)</a:t>
            </a:r>
            <a:endParaRPr b="0" lang="en-US" sz="10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End user Satellites for online services allow users to have access of data stored in SaaS style applications even when disconnected from the Internet.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438280"/>
            <a:ext cx="1828800" cy="4874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Pri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Online Servi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4724280"/>
            <a:ext cx="1067040" cy="4874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End user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Satelli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4724280"/>
            <a:ext cx="914400" cy="6098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3533760" cy="2259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00600" y="297180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518148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3429-E4C7-427B-A004-0518C356AD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kkurat-Bold"/>
              </a:rPr>
              <a:t>Morfik and Satellites</a:t>
            </a:r>
            <a:endParaRPr b="0" lang="en-US" sz="24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What/who is Morfik?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lvl="2" marL="512640" indent="-168120">
              <a:spcBef>
                <a:spcPts val="451"/>
              </a:spcBef>
              <a:buClr>
                <a:srgbClr val="000000"/>
              </a:buClr>
              <a:buFont typeface="Akkur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"/>
              </a:rPr>
              <a:t>Company based in Australia</a:t>
            </a:r>
            <a:endParaRPr b="0" lang="en-US" sz="1800" spc="-1" strike="noStrike">
              <a:solidFill>
                <a:srgbClr val="000000"/>
              </a:solidFill>
              <a:latin typeface="Akkurat"/>
            </a:endParaRPr>
          </a:p>
          <a:p>
            <a:pPr lvl="2" marL="512640" indent="-168120">
              <a:spcBef>
                <a:spcPts val="451"/>
              </a:spcBef>
              <a:buClr>
                <a:srgbClr val="000000"/>
              </a:buClr>
              <a:buFont typeface="Akkur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"/>
              </a:rPr>
              <a:t>Revolutionizes the way Web applications  are developed</a:t>
            </a:r>
            <a:endParaRPr b="0" lang="en-US" sz="1800" spc="-1" strike="noStrike">
              <a:solidFill>
                <a:srgbClr val="000000"/>
              </a:solidFill>
              <a:latin typeface="Akkurat"/>
            </a:endParaRPr>
          </a:p>
          <a:p>
            <a:pPr lvl="3" marL="679320" indent="231840">
              <a:spcBef>
                <a:spcPts val="400"/>
              </a:spcBef>
              <a:buClr>
                <a:srgbClr val="000000"/>
              </a:buClr>
              <a:buFont typeface="Akkurat-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kurat-Light"/>
              </a:rPr>
              <a:t>Visual Interface design</a:t>
            </a:r>
            <a:endParaRPr b="0" lang="en-US" sz="1600" spc="-1" strike="noStrike">
              <a:solidFill>
                <a:srgbClr val="000000"/>
              </a:solidFill>
              <a:latin typeface="Akkurat-Light"/>
            </a:endParaRPr>
          </a:p>
          <a:p>
            <a:pPr lvl="3" marL="679320" indent="231840">
              <a:spcBef>
                <a:spcPts val="400"/>
              </a:spcBef>
              <a:buClr>
                <a:srgbClr val="000000"/>
              </a:buClr>
              <a:buFont typeface="Akkurat-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kurat-Light"/>
              </a:rPr>
              <a:t>Visual Report design</a:t>
            </a:r>
            <a:endParaRPr b="0" lang="en-US" sz="1600" spc="-1" strike="noStrike">
              <a:solidFill>
                <a:srgbClr val="000000"/>
              </a:solidFill>
              <a:latin typeface="Akkurat-Light"/>
            </a:endParaRPr>
          </a:p>
          <a:p>
            <a:pPr lvl="3" marL="679320" indent="231840">
              <a:spcBef>
                <a:spcPts val="400"/>
              </a:spcBef>
              <a:buClr>
                <a:srgbClr val="000000"/>
              </a:buClr>
              <a:buFont typeface="Akkurat-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kurat-Light"/>
              </a:rPr>
              <a:t>Fully Ajax interface for Web applications</a:t>
            </a:r>
            <a:endParaRPr b="0" lang="en-US" sz="1600" spc="-1" strike="noStrike">
              <a:solidFill>
                <a:srgbClr val="000000"/>
              </a:solidFill>
              <a:latin typeface="Akkurat-Light"/>
            </a:endParaRPr>
          </a:p>
          <a:p>
            <a:pPr lvl="3" marL="679320" indent="231840">
              <a:spcBef>
                <a:spcPts val="400"/>
              </a:spcBef>
              <a:buClr>
                <a:srgbClr val="000000"/>
              </a:buClr>
              <a:buFont typeface="Akkurat-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kurat-Light"/>
              </a:rPr>
              <a:t>Zero HTML, CSS, XML, XHTML, JavaScript knowledge required.</a:t>
            </a:r>
            <a:endParaRPr b="0" lang="en-US" sz="1600" spc="-1" strike="noStrike">
              <a:solidFill>
                <a:srgbClr val="000000"/>
              </a:solidFill>
              <a:latin typeface="Akkurat-Light"/>
            </a:endParaRPr>
          </a:p>
          <a:p>
            <a:pPr lvl="3" marL="679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kurat-Ligh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Firebird is used by Morfik as its default database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Tools specifically designed for the creation of  Satellites will be available in Morfik WebOS AppsBuilder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FC68F-080B-49A7-B4B5-7DE2D64C6B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kkurat-Bold"/>
              </a:rPr>
              <a:t>Morfik and Satellites </a:t>
            </a:r>
            <a:r>
              <a:rPr b="0" lang="pt-BR" sz="1000" spc="-1" strike="noStrike">
                <a:solidFill>
                  <a:srgbClr val="ff0000"/>
                </a:solidFill>
                <a:latin typeface="Akkurat-Bold"/>
              </a:rPr>
              <a:t>(continued)</a:t>
            </a:r>
            <a:endParaRPr b="0" lang="en-US" sz="10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Morfik has a large effort under way to bring the Satellite concept into everyday use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Satellites for online services such as Salesforce.com and Amazon’s S3 are already undergoing internal testing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Customer testing for Salesforce.com Satellites has been under way for several months now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F7C3-EB0F-4086-B4B8-CD7075B4AB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kkurat-Bold"/>
              </a:rPr>
              <a:t>New Possibilities</a:t>
            </a:r>
            <a:endParaRPr b="0" lang="en-US" sz="24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Unplugged/disconnected application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Low cost scaling of databases for online service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Enhanced in-house information access by end-user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E3FAF-7AF7-40A8-A390-1FB75F8F58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kkurat-Bold"/>
              </a:rPr>
              <a:t>Conclusion</a:t>
            </a:r>
            <a:endParaRPr b="0" lang="en-US" sz="24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The Satellite concept has many application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Satellites can be a cost effective way coping with high demand/traffic website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Morfik has a large effort under way to bring this concept to everyday use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Satellites for online services such as Salesforce.com and Amazon’s S3 are already undergoing testing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0985-4815-4FB1-8399-E96B81EC61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kkurat-Bold"/>
              </a:rPr>
              <a:t>Questions?</a:t>
            </a:r>
            <a:endParaRPr b="0" lang="en-US" sz="24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Feel free to ask any questions.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8266-B7B6-4220-AF8E-88CDF0BE29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kkurat-Bold"/>
              </a:rPr>
              <a:t>Agenda</a:t>
            </a:r>
            <a:endParaRPr b="0" lang="en-US" sz="24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Problems faced by online system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Work around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The Satellite concept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Applying Satellites to online system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Morfik and Satellite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New possibilitie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AD9F-17A2-47E7-95B1-852751B670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kkurat-Bold"/>
              </a:rPr>
              <a:t>Problems faced by online systems</a:t>
            </a:r>
            <a:endParaRPr b="0" lang="en-US" sz="24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Very large database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lvl="2" marL="512640" indent="-168120">
              <a:spcBef>
                <a:spcPts val="451"/>
              </a:spcBef>
              <a:buClr>
                <a:srgbClr val="000000"/>
              </a:buClr>
              <a:buFont typeface="Akkur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"/>
              </a:rPr>
              <a:t>Overwhelming amounts of data</a:t>
            </a:r>
            <a:endParaRPr b="0" lang="en-US" sz="1800" spc="-1" strike="noStrike">
              <a:solidFill>
                <a:srgbClr val="000000"/>
              </a:solidFill>
              <a:latin typeface="Akkura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Highly concurrent database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lvl="2" marL="512640" indent="-168120">
              <a:spcBef>
                <a:spcPts val="451"/>
              </a:spcBef>
              <a:buClr>
                <a:srgbClr val="000000"/>
              </a:buClr>
              <a:buFont typeface="Akkur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"/>
              </a:rPr>
              <a:t>Locking considerations</a:t>
            </a:r>
            <a:endParaRPr b="0" lang="en-US" sz="1800" spc="-1" strike="noStrike">
              <a:solidFill>
                <a:srgbClr val="000000"/>
              </a:solidFill>
              <a:latin typeface="Akkurat"/>
            </a:endParaRPr>
          </a:p>
          <a:p>
            <a:pPr lvl="2" marL="512640" indent="-168120">
              <a:spcBef>
                <a:spcPts val="451"/>
              </a:spcBef>
              <a:buClr>
                <a:srgbClr val="000000"/>
              </a:buClr>
              <a:buFont typeface="Akkur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"/>
              </a:rPr>
              <a:t>Hardware I/O capacity problems</a:t>
            </a:r>
            <a:endParaRPr b="0" lang="en-US" sz="1800" spc="-1" strike="noStrike">
              <a:solidFill>
                <a:srgbClr val="000000"/>
              </a:solidFill>
              <a:latin typeface="Akkura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Multi-tenant database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lvl="2" marL="512640" indent="-168120">
              <a:spcBef>
                <a:spcPts val="451"/>
              </a:spcBef>
              <a:buClr>
                <a:srgbClr val="000000"/>
              </a:buClr>
              <a:buFont typeface="Akkur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"/>
              </a:rPr>
              <a:t>Badly designed queries can render the system unusable for all tenants</a:t>
            </a:r>
            <a:endParaRPr b="0" lang="en-US" sz="1800" spc="-1" strike="noStrike">
              <a:solidFill>
                <a:srgbClr val="000000"/>
              </a:solidFill>
              <a:latin typeface="Akkurat"/>
            </a:endParaRPr>
          </a:p>
          <a:p>
            <a:pPr lvl="2" marL="512640" indent="-168120">
              <a:spcBef>
                <a:spcPts val="451"/>
              </a:spcBef>
              <a:buClr>
                <a:srgbClr val="000000"/>
              </a:buClr>
              <a:buFont typeface="Akkur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"/>
              </a:rPr>
              <a:t>Complex queries and reporting highly unadvisable</a:t>
            </a:r>
            <a:endParaRPr b="0" lang="en-US" sz="18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D244C-8DEE-4514-B037-69B22611D3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kkurat-Bold"/>
              </a:rPr>
              <a:t>Work arounds</a:t>
            </a:r>
            <a:endParaRPr b="0" lang="en-US" sz="24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Enforced restrictions on commands that can be executed against the database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Prohibit direct user access to the database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Create database replica for </a:t>
            </a:r>
            <a:r>
              <a:rPr b="0" i="1" lang="pt-BR" sz="2000" spc="-1" strike="noStrike">
                <a:solidFill>
                  <a:srgbClr val="000000"/>
                </a:solidFill>
                <a:latin typeface="Akkurat-Bold"/>
              </a:rPr>
              <a:t>ad-hoc</a:t>
            </a: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 querying and reporting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910E-163E-4DBA-8D7E-05C8E827F9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kkurat-Bold"/>
              </a:rPr>
              <a:t>The Satellite concept</a:t>
            </a:r>
            <a:endParaRPr b="0" lang="en-US" sz="24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Going beyond the replica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Satellites extend and suplement existing system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Large systems, naturally draw in satellite application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4343400" cy="2102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0120" y="2590920"/>
            <a:ext cx="914400" cy="4572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Pri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181480"/>
            <a:ext cx="914400" cy="4572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Satelli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DEA6D-1E3B-4E59-8043-F37CD48586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kkurat-Bold"/>
              </a:rPr>
              <a:t>The Satellite concept </a:t>
            </a:r>
            <a:r>
              <a:rPr b="0" lang="pt-BR" sz="1000" spc="-1" strike="noStrike">
                <a:solidFill>
                  <a:srgbClr val="ff0000"/>
                </a:solidFill>
                <a:latin typeface="Akkurat-Bold"/>
              </a:rPr>
              <a:t>(continued)</a:t>
            </a:r>
            <a:endParaRPr b="0" lang="en-US" sz="10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In-house copies of external data source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Auxiliary data sources to offload primary database processing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Reducing the likelihood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concurrency issue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62720" y="2548080"/>
            <a:ext cx="3152520" cy="1525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829640" y="1828800"/>
            <a:ext cx="1038240" cy="53352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Pri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4495680"/>
            <a:ext cx="1312920" cy="4874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Departmental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919680"/>
            <a:ext cx="3152520" cy="1525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43440" y="3200400"/>
            <a:ext cx="1038240" cy="53352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Online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1080" y="5081760"/>
            <a:ext cx="1266840" cy="5140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In-house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8F36-9E26-483F-BFC1-F3E655AF54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kkurat-Bold"/>
              </a:rPr>
              <a:t>The Satellite concept </a:t>
            </a:r>
            <a:r>
              <a:rPr b="0" lang="pt-BR" sz="1000" spc="-1" strike="noStrike">
                <a:solidFill>
                  <a:srgbClr val="ff0000"/>
                </a:solidFill>
                <a:latin typeface="Akkurat-Bold"/>
              </a:rPr>
              <a:t>(continued)</a:t>
            </a:r>
            <a:endParaRPr b="0" lang="en-US" sz="10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Multi-level satellites are possible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Zero licensing cost makes Firebird an ideal solution for  large scale distribution of Satellite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End-user machine Satellit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allows unplugged access to data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on the field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Low maintenance needs make Firebi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an ideal solution for running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end user machine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743200"/>
            <a:ext cx="1038240" cy="53352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Pri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72400" y="5334120"/>
            <a:ext cx="1371600" cy="4870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Departmental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267080" y="2895480"/>
            <a:ext cx="3686400" cy="2355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67080" y="5410080"/>
            <a:ext cx="990720" cy="4874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End-user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F5DB-3A88-4FD4-9BC1-F18B9E2119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kkurat-Bold"/>
              </a:rPr>
              <a:t>The Satellite concept </a:t>
            </a:r>
            <a:r>
              <a:rPr b="0" lang="pt-BR" sz="1000" spc="-1" strike="noStrike">
                <a:solidFill>
                  <a:srgbClr val="ff0000"/>
                </a:solidFill>
                <a:latin typeface="Akkurat-Bold"/>
              </a:rPr>
              <a:t>(continued)</a:t>
            </a:r>
            <a:endParaRPr b="0" lang="en-US" sz="10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Multiple Satellites can orbit the same system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Multiple Satellite Servers (or)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Large number of end-user satellite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2179800"/>
            <a:ext cx="1038240" cy="5331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Pri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3322800"/>
            <a:ext cx="1371600" cy="4870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Departmental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4846680"/>
            <a:ext cx="990720" cy="4874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End-user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352680" y="3259080"/>
            <a:ext cx="4287960" cy="207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FC71-9F72-46AE-8CA7-A2466515BD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125880"/>
            <a:ext cx="5029200" cy="2741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kkurat-Bold"/>
              </a:rPr>
              <a:t>The Satellite concept </a:t>
            </a:r>
            <a:r>
              <a:rPr b="0" lang="pt-BR" sz="1000" spc="-1" strike="noStrike">
                <a:solidFill>
                  <a:srgbClr val="ff0000"/>
                </a:solidFill>
                <a:latin typeface="Akkurat-Bold"/>
              </a:rPr>
              <a:t>(continued)</a:t>
            </a:r>
            <a:endParaRPr b="0" lang="en-US" sz="10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Satellites can orbit dual core system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Cross-reference data from different data source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Cross-reference data from in-house and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external data source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81" name=""/>
          <p:cNvSpPr/>
          <p:nvPr/>
        </p:nvSpPr>
        <p:spPr>
          <a:xfrm>
            <a:off x="6934320" y="2362320"/>
            <a:ext cx="1752480" cy="5331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Primary System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In-houser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5410080"/>
            <a:ext cx="1371600" cy="4874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Departmental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4876920"/>
            <a:ext cx="1828800" cy="4870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Pri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kkurat"/>
              </a:rPr>
              <a:t>Online Servi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C02F9-EFD3-41DD-A4F1-114A3BBD86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04:14:26Z</dcterms:created>
  <dc:creator>MORFIK</dc:creator>
  <dc:description/>
  <dc:language>en-US</dc:language>
  <cp:lastModifiedBy>Mauricio Longo</cp:lastModifiedBy>
  <dcterms:modified xsi:type="dcterms:W3CDTF">2006-11-12T04:36:08Z</dcterms:modified>
  <cp:revision>12</cp:revision>
  <dc:subject/>
  <dc:title>SLIDE HEADING</dc:title>
</cp:coreProperties>
</file>