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E23-9806-4BA8-A5C6-E5E5723D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DFA-F2A8-4EAA-890E-F1114031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E8F-ACDB-41B5-B80F-8526FCCD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5BC-0872-4FA5-95EF-173FB9D5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E1E-79A0-402F-9282-08140CF9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08E-5825-41F9-92F1-E19721FD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F04-F758-45D8-9A52-586D4215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AC3-11BD-46A6-9B6E-1C9C2697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067-70E4-4D64-8260-BC9FFAE5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0AE-E15B-46C1-892C-3601E8E0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30D-D0FD-4D01-A567-F174CAD1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587-E8DC-42B7-9AB3-3DDA72C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0044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17.5./18.5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640044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52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5740-7156-4326-9CDC-416BF70C305C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85800" y="9907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pscene.com/" TargetMode="External"/><Relationship Id="rId3" Type="http://schemas.openxmlformats.org/officeDocument/2006/relationships/hyperlink" Target="http://www.upscene.com/" TargetMode="External"/><Relationship Id="rId4" Type="http://schemas.openxmlformats.org/officeDocument/2006/relationships/hyperlink" Target="http://www.upscene.com/" TargetMode="External"/><Relationship Id="rId5" Type="http://schemas.openxmlformats.org/officeDocument/2006/relationships/hyperlink" Target="http://www.upscene.com/" TargetMode="External"/><Relationship Id="rId6" Type="http://schemas.openxmlformats.org/officeDocument/2006/relationships/hyperlink" Target="http://www.upscene.com/" TargetMode="External"/><Relationship Id="rId7" Type="http://schemas.openxmlformats.org/officeDocument/2006/relationships/hyperlink" Target="http://www.upscene.com/" TargetMode="External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53352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6858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3rd Worldwide Firebird Conference 2005, Prague, Czech Repub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Owner Migration – The Easy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743200"/>
            <a:ext cx="7620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Session: TOOLS-P305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Thomas Steinmaurer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Upscene 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atabase Tools for Develo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atabase Workbench, LogManager Series, Advanced Data Generator, InterXpress for Firebi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</a:t>
            </a: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www</a:t>
            </a: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4"/>
              </a:rPr>
              <a:t>.</a:t>
            </a: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5"/>
              </a:rPr>
              <a:t>upscene</a:t>
            </a: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6"/>
              </a:rPr>
              <a:t>.</a:t>
            </a: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7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The Hitchhikers Guide to the Firebird system tables (3/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eld RDB$GRANTOR in RDB$USER_PRIVILEGES is the grantor of a SQL privi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eld RDB$GRANT_OPTION in RDB$USER_PRIVILEGES defines if the user is allowed to grant SQL privileges to someone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eld RDB$PRIVILEGE in RDB$USER_PRIVILEGES stores the granted SQL privi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DE0-4244-46E6-91DB-27EBABBDD2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The Hitchhikers Guide to the Firebird system tables (4/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ossible values of RDB$PRIVI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66880" y="2057400"/>
          <a:ext cx="3848040" cy="27432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DB$PRIVIL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L privil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S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ECU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BER OF 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3C3-37B7-401E-9371-4A8B9E5597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rebird and the term „Ownership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Using SYSDBA and its con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 Hitchhikers Guide to the Firebird system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Owner Migration – Th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ool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505320"/>
            <a:ext cx="458640" cy="345960"/>
          </a:xfrm>
          <a:custGeom>
            <a:avLst/>
            <a:gdLst>
              <a:gd name="textAreaLeft" fmla="*/ 57240 w 458640"/>
              <a:gd name="textAreaRight" fmla="*/ 401400 w 458640"/>
              <a:gd name="textAreaTop" fmla="*/ 86400 h 345960"/>
              <a:gd name="textAreaBottom" fmla="*/ 259560 h 34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C44-9E74-4DD1-A8E8-2F3B61848E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wner Migration – The Process (1/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ample: Migrate employee.fdb from SYSDBA to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ake a copy of your databas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re are eight with an optional sixth step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tep 1: Create EMPLOYEE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tep 2: Backup with SYSDBA and restore with EMPLOY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tep 3: Query existing owners of database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tep 4: Change owner for tables, stored procedures and ro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tep 5: Migrate SQL privile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tep 6 (optional): Create a role called SYSDB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tep 7: Backup and restore with EMPLOY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tep 8: T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780-761E-4946-A404-D21BDE05F3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wner Migration – The Process (2/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ep 1: Run „step1.bat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ep 2: Run „step2.bat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ep 3: Run „step3.bat“ and execute „step3.sql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ep 4: Run „step4.bat“ and execute „step4.sql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ep 5: Four sub-ta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ub-task 1: Grant all rights for EMPLOYEE on database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ub-task 2: Migrate existing privileges to EMPLOYEE as gran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ub-task 3: Delete all privileges with SYSDBA as gran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ub-task 4: Delete all privileges with SYSDBA as grant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D88-996F-46E0-9A0C-6A038A93FB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wner Migration – The Process (3/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ep 5 (continu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ub-task 1 and 2: Run „MigrateUserPrivileges.exe 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ub-task 3: Run „step5_3.bat “ and execute „step5_3.sql 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ub-task 4: Run „step5_4.bat “ and execute „step5_4.sql 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ep 6 (optional): Run „step6_optional.bat “ and execute „step6_optional.sql 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ep 7: Run „step7.bat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tep 8: Test your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DFA-B68F-44B6-A52B-6D063DB83C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rebird and the term „Ownership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Using SYSDBA and its con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 Hitchhikers Guide to the Firebird system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Owner Migration – Th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ool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226040"/>
            <a:ext cx="458640" cy="345960"/>
          </a:xfrm>
          <a:custGeom>
            <a:avLst/>
            <a:gdLst>
              <a:gd name="textAreaLeft" fmla="*/ 57240 w 458640"/>
              <a:gd name="textAreaRight" fmla="*/ 401400 w 458640"/>
              <a:gd name="textAreaTop" fmla="*/ 86400 h 345960"/>
              <a:gd name="textAreaBottom" fmla="*/ 259560 h 34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BC2-17BA-4EC4-8452-93224CDD78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Tool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Upscene Productions‘ „FBOwnerMigrator“ (FBO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reeware without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ncluded on the conference C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IMPORTANT: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Use it at your own risk ;-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E7D-76A2-46B8-BE74-1F2EB6D68B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87F-1E91-4911-BD6D-D1CC6EF79D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rebird and the term „Ownership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Using SYSDBA and its con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 Hitchhikers Guide to the Firebird system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Owner Migration – Th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ool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330200"/>
            <a:ext cx="458640" cy="346320"/>
          </a:xfrm>
          <a:custGeom>
            <a:avLst/>
            <a:gdLst>
              <a:gd name="textAreaLeft" fmla="*/ 57240 w 458640"/>
              <a:gd name="textAreaRight" fmla="*/ 401400 w 458640"/>
              <a:gd name="textAreaTop" fmla="*/ 86400 h 346320"/>
              <a:gd name="textAreaBottom" fmla="*/ 259920 h 34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35A-F5A4-4562-8C22-080D42EDB4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Firebird and the term „Ownership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 creator (Firebird user) of a database / database objects gets automatically the ow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 owner of a database / database objects has special 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Owner of a database (beside SYSDBA): Backup, running „gfix“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Owner of database objects: Create fields for table, grant SQL privileges, alter stored procedure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atabase owner vs. database object ow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atabase owner not necessarily the owner of database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Changing the database owner through backup/restore doesn‘t change the owner of database objects automatica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E53-0657-4374-8C1E-865B08D8D8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rebird and the term „Ownership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Using SYSDBA and its con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 Hitchhikers Guide to the Firebird system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Owner Migration – Th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ool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057400"/>
            <a:ext cx="458640" cy="345960"/>
          </a:xfrm>
          <a:custGeom>
            <a:avLst/>
            <a:gdLst>
              <a:gd name="textAreaLeft" fmla="*/ 57240 w 458640"/>
              <a:gd name="textAreaRight" fmla="*/ 401400 w 458640"/>
              <a:gd name="textAreaTop" fmla="*/ 86400 h 345960"/>
              <a:gd name="textAreaBottom" fmla="*/ 259560 h 34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A96-31D9-42E3-B253-57578F1BEE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Using SYSDBA and its consequences (1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ach Firebird installation comes with a user called SYSDB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YSDBA is an attractive Firebird user for newbies for creating databases and database objects, because you don‘t have to mess around with user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YSDBA as owner = bad idea,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No control over the SYSDBA password, if there is already a Firebird installation at your customers s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Web-hosters probably don‘t allow using SYSDB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YSDBA is fine for in-house usage, but a bad idea when deploying a Firebird database to your customer, web-hoster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DDD-AED4-4B41-9106-88B3EC1D6E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Using SYSDBA and its consequences (2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wo ways to migrate the owner of a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pproach 1: Create a metadata script of your database, run this script with the new owner and pump data from your source into your destination database, 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pproach 2: Use a carefully researched approach of a mix of backup/restore cycles and direct system table manipulations, without the need of recreating the database and pumping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pproach 2 is subject of this s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8B9-4880-434C-AEC3-402566C677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rebird and the term „Ownership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Using SYSDBA and its con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 Hitchhikers Guide to the Firebird system t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Owner Migration – Th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ool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778120"/>
            <a:ext cx="458640" cy="345960"/>
          </a:xfrm>
          <a:custGeom>
            <a:avLst/>
            <a:gdLst>
              <a:gd name="textAreaLeft" fmla="*/ 57240 w 458640"/>
              <a:gd name="textAreaRight" fmla="*/ 401400 w 458640"/>
              <a:gd name="textAreaTop" fmla="*/ 86400 h 345960"/>
              <a:gd name="textAreaBottom" fmla="*/ 259560 h 34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201-B040-4154-B1D0-A0D3D9795B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The Hitchhikers Guide to the Firebird system tables (1/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re is/was an entire session on Firebird system tables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(Martijn Tonies; INTRN-A202-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ystem tables are special tables storing information (metadata) about the database and its database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ystem tables have the following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Name of a system table starts with RDB$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It‘s possible to query system tables like any other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ome direct system table manipulations aren‘t rejected by the engine through system trigg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ATTENTION: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Direct system table manipulations may corrupt your database, if you don‘t know exactly what you are do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C64-2978-4ED1-8914-7A47AC09EE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The Hitchhikers Guide to the Firebird system tables (2/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 most important system tables for us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DB$PROCEDURES: All stored proced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DB$RELATIONS: All tables and vie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DB$ROLES: All ro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DB$USER_PRIVILEGES: All SQL privile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eld RDB$OWNER_NAME in RDB$PROCEDURES, RDB$RELATIONS and RDB$ROLES holds the owner of a particular database 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eld RDB$USER in RDB$USER_PRIVILEGES is the grantee of a SQL privi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7E4-6819-4AF2-AE36-75DECD71B3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omas Steinmaurer</cp:lastModifiedBy>
  <dcterms:modified xsi:type="dcterms:W3CDTF">2005-11-03T21:23:27Z</dcterms:modified>
  <cp:revision>738</cp:revision>
  <dc:subject/>
  <dc:title>PowerPoint Presentation</dc:title>
</cp:coreProperties>
</file>