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6E3-CFA3-4FF5-A3CB-241B3285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072-9EED-4878-899A-7441E650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4CF-7BE5-4EA7-8A08-D6F4865F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906-0A62-45BE-8D5F-DAF91D6E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C52-2DCA-4A13-BDE4-7362761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4D4-8FD1-41A8-995D-3A299AC7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148-B4CE-4CB0-B837-91903D17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54C-1194-4004-B89B-E47D9EB1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616-6F57-4183-9098-476CD769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92E-3EA2-4442-8267-B5F13B09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C6B-2266-472E-B3C4-AFD5E6D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ED4-E17A-4CB3-BE3B-AD9EAF20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0044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17.5./18.5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40044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645A-BD7D-4F3C-BC4D-75CF8554CFEF}" type="slidenum">
              <a:rPr b="1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85800" y="9907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pscene.com/" TargetMode="External"/><Relationship Id="rId3" Type="http://schemas.openxmlformats.org/officeDocument/2006/relationships/hyperlink" Target="http://www.upscene.com/" TargetMode="External"/><Relationship Id="rId4" Type="http://schemas.openxmlformats.org/officeDocument/2006/relationships/hyperlink" Target="http://www.upscene.com/" TargetMode="External"/><Relationship Id="rId5" Type="http://schemas.openxmlformats.org/officeDocument/2006/relationships/hyperlink" Target="http://www.upscene.com/" TargetMode="External"/><Relationship Id="rId6" Type="http://schemas.openxmlformats.org/officeDocument/2006/relationships/hyperlink" Target="http://www.upscene.com/" TargetMode="External"/><Relationship Id="rId7" Type="http://schemas.openxmlformats.org/officeDocument/2006/relationships/hyperlink" Target="http://www.upscene.com/" TargetMode="External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pscene.com/" TargetMode="External"/><Relationship Id="rId3" Type="http://schemas.openxmlformats.org/officeDocument/2006/relationships/hyperlink" Target="http://www.upscene.com/" TargetMode="External"/><Relationship Id="rId4" Type="http://schemas.openxmlformats.org/officeDocument/2006/relationships/hyperlink" Target="http://www.upscene.com/" TargetMode="External"/><Relationship Id="rId5" Type="http://schemas.openxmlformats.org/officeDocument/2006/relationships/hyperlink" Target="http://www.upscene.com/" TargetMode="External"/><Relationship Id="rId6" Type="http://schemas.openxmlformats.org/officeDocument/2006/relationships/hyperlink" Target="http://www.upscene.com/" TargetMode="External"/><Relationship Id="rId7" Type="http://schemas.openxmlformats.org/officeDocument/2006/relationships/hyperlink" Target="http://www.upscene.com/" TargetMode="Externa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53352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6858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3rd Worldwide Firebird Conference 2005, Prague, Czech Repub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Audit Trails, Transaction Log, Redo with the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Tahoma"/>
              </a:rPr>
              <a:t>IB LogManager product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743200"/>
            <a:ext cx="7620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ession: TOOLS-P208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homas Steinmaurer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Upscene Prod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atabase Tools for Develo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atabase Workbench, LogManager Series, Advanced Data Generator, InterXpress for Firebi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www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.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5"/>
              </a:rPr>
              <a:t>upscene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6"/>
              </a:rPr>
              <a:t>.</a:t>
            </a:r>
            <a:r>
              <a:rPr b="0" lang="de-AT" sz="1800" spc="-1" strike="noStrike" u="sng">
                <a:solidFill>
                  <a:srgbClr val="3333cc"/>
                </a:solidFill>
                <a:uFillTx/>
                <a:latin typeface="Tahoma"/>
                <a:hlinkClick r:id="rId7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erver-side audit trail (3/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Log tables for approach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543720" cy="28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755-E499-4E94-9F28-1E6D88DF4D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erver-side audit trail (4/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rigger example for approach 3 – Track UPDATE operations</a:t>
            </a:r>
            <a:br>
              <a:rPr sz="2000"/>
            </a:br>
            <a:br>
              <a:rPr sz="1000"/>
            </a:br>
            <a:br>
              <a:rPr sz="10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CREATE TRIGGER TRI_ROOM_L_D FOR </a:t>
            </a:r>
            <a:r>
              <a:rPr b="1" lang="de-AT" sz="1200" spc="-1" strike="noStrike">
                <a:solidFill>
                  <a:srgbClr val="000000"/>
                </a:solidFill>
                <a:latin typeface="Courier New"/>
              </a:rPr>
              <a:t>ROOM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ACTIVE </a:t>
            </a:r>
            <a:r>
              <a:rPr b="1" lang="de-AT" sz="1200" spc="-1" strike="noStrike">
                <a:solidFill>
                  <a:srgbClr val="000000"/>
                </a:solidFill>
                <a:latin typeface="Courier New"/>
              </a:rPr>
              <a:t>AFTER UPDAT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POSITION </a:t>
            </a:r>
            <a:r>
              <a:rPr b="1" lang="de-AT" sz="1200" spc="-1" strike="noStrike">
                <a:solidFill>
                  <a:srgbClr val="000000"/>
                </a:solidFill>
                <a:latin typeface="Courier New"/>
              </a:rPr>
              <a:t>32767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AS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DECLARE VARIABLE VAR_ID NUMERIC(18,0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IF (USER &lt;&gt; 'IBLM_REPL') THEN BEGIN /* Conditional logging =&gt; optional */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EXECUTE PROCEDURE SP_INSERTINTOIBLM$OPERATIONLOG (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'ROOM', 'UPDATE', 'ID', OLD.ID, ..., CURRENT_TRANSACTION)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RETURNING_VALUES :VAR_ID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IF (((</a:t>
            </a:r>
            <a:r>
              <a:rPr b="1" lang="de-AT" sz="1200" spc="-1" strike="noStrike">
                <a:solidFill>
                  <a:srgbClr val="000000"/>
                </a:solidFill>
                <a:latin typeface="Courier New"/>
              </a:rPr>
              <a:t>OL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.PICTURE IS NULL) AND (</a:t>
            </a:r>
            <a:r>
              <a:rPr b="1" lang="de-AT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.PICTURE IS NOT NULL)) OR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  ((OLD.PICTURE IS NOT NULL) AND (NEW.PICTURE IS NULL)) OR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  (</a:t>
            </a:r>
            <a:r>
              <a:rPr b="1" lang="de-AT" sz="1200" spc="-1" strike="noStrike">
                <a:solidFill>
                  <a:srgbClr val="000000"/>
                </a:solidFill>
                <a:latin typeface="Courier New"/>
              </a:rPr>
              <a:t>F_IBLM_BLOB_CRC(OLD.PICTURE) &lt;&gt; F_IBLM_BLOB_CRC(NEW.PICTURE)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)) THEN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INSERT INTO IBLM$COLUMNLOG (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  ID, OPERATIONLOG_ID, COLUMN_NAME, OLD_VALUE,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  NEW_VALUE, OLD_VALUE_BLOB, NEW_VALUE_BLOB)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VALUES (GEN_ID(GEN_IBLM$COLUMNLOG_ID, 1), :VAR_ID, 'PICTURE', NULL,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  NULL, </a:t>
            </a:r>
            <a:r>
              <a:rPr b="1" lang="de-AT" sz="1200" spc="-1" strike="noStrike">
                <a:solidFill>
                  <a:srgbClr val="000000"/>
                </a:solidFill>
                <a:latin typeface="Courier New"/>
              </a:rPr>
              <a:t>OL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.PICTURE, </a:t>
            </a:r>
            <a:r>
              <a:rPr b="1" lang="de-AT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.PICTURE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048120"/>
            <a:ext cx="7543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581280"/>
            <a:ext cx="75438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3048120"/>
            <a:ext cx="12956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Operation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3581280"/>
            <a:ext cx="1295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Column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5562720"/>
            <a:ext cx="3276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UDF needed to compare BLO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791320" y="4114800"/>
            <a:ext cx="1295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419720" y="4114800"/>
            <a:ext cx="2666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581280"/>
            <a:ext cx="5029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2209680"/>
            <a:ext cx="3048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ahoma"/>
              </a:rPr>
              <a:t>Special treatment of NULLable fie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638680" y="251460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6E8-A7D9-4BBB-9BB5-F519B92D5D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erver-side audit trail (5/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oncept of building a server-side logging mechanism is eas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reating metadata isn‘t that much work, b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maintaining triggers manually is annoying and error-pr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he IB LogManager product family is a real time-saver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D0B-EF5B-458C-A4D1-E3E124DD15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pplication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erver-side audit tr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 LogManager product fami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505320"/>
            <a:ext cx="458640" cy="345960"/>
          </a:xfrm>
          <a:custGeom>
            <a:avLst/>
            <a:gdLst>
              <a:gd name="textAreaLeft" fmla="*/ 57240 w 458640"/>
              <a:gd name="textAreaRight" fmla="*/ 401400 w 458640"/>
              <a:gd name="textAreaTop" fmla="*/ 86400 h 345960"/>
              <a:gd name="textAreaBottom" fmla="*/ 259560 h 34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72F-4A4C-4FA5-9AB4-F054B46401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IB LogManager product family (1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 LogManager: Core product to integrate and maintain a server-side auditing mechani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LMViewer: For browsing, exporting and printing log data, without the capability to change the logging sch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LMExport: Command-line utility to export log data into different file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LMPump: Command-line utility to move log data from the production into a „transaction log“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LMRedo: Wizard-driven utility to re-apply tracked changes on a destination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95C-D7B9-47FB-A276-D8521D37DC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IB LogManager product family (2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upports InterBase 5.x, 6.x, 7.x and Firebird 1.x, 2.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erver-side logging mechani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able operation logg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able column logging (including BL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User-definable conditional logg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cripting Engine to automate repetitive tas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Browse, export, print log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Multilingual graphical user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Global IBO DML Caching Integrator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everal addons (IBLMViewer, IBLMExport, IBLMPump, IBLMRed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FCC-EDEC-4F3E-AE26-99F729A51A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IB LogManager product family (3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IB LogManag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1-4 license(s): 69 EUR /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5-9 licenses: 56 EUR /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10 or more licenses: 51 EUR /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Site license: 399 EUR /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ddons (for eac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1-4 license(s): 29 EUR /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5-9 licenses: 24 EUR /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10 or more licenses: 22 EUR /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Site license: 169 EUR / licen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Productivity suite: Database Workbench Pro for Firebird and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IB LogManager product fami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License price: 179 EU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re information: </a:t>
            </a:r>
            <a:r>
              <a:rPr b="0" lang="de-AT" sz="20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</a:t>
            </a:r>
            <a:r>
              <a:rPr b="0" lang="de-AT" sz="20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www</a:t>
            </a:r>
            <a:r>
              <a:rPr b="0" lang="de-AT" sz="20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.</a:t>
            </a:r>
            <a:r>
              <a:rPr b="0" lang="de-AT" sz="2000" spc="-1" strike="noStrike" u="sng">
                <a:solidFill>
                  <a:srgbClr val="3333cc"/>
                </a:solidFill>
                <a:uFillTx/>
                <a:latin typeface="Tahoma"/>
                <a:hlinkClick r:id="rId5"/>
              </a:rPr>
              <a:t>upscene</a:t>
            </a:r>
            <a:r>
              <a:rPr b="0" lang="de-AT" sz="2000" spc="-1" strike="noStrike" u="sng">
                <a:solidFill>
                  <a:srgbClr val="3333cc"/>
                </a:solidFill>
                <a:uFillTx/>
                <a:latin typeface="Tahoma"/>
                <a:hlinkClick r:id="rId6"/>
              </a:rPr>
              <a:t>.</a:t>
            </a:r>
            <a:r>
              <a:rPr b="0" lang="de-AT" sz="2000" spc="-1" strike="noStrike" u="sng">
                <a:solidFill>
                  <a:srgbClr val="3333cc"/>
                </a:solidFill>
                <a:uFillTx/>
                <a:latin typeface="Tahoma"/>
                <a:hlinkClick r:id="rId7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060-AB73-4FAC-A7B5-8E8A7A2940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IB LogManager product family (4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594-6B83-4EAC-9723-5DC809D1FA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pplication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erver-side audit tr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 LogManager product fami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30200"/>
            <a:ext cx="458640" cy="346320"/>
          </a:xfrm>
          <a:custGeom>
            <a:avLst/>
            <a:gdLst>
              <a:gd name="textAreaLeft" fmla="*/ 57240 w 458640"/>
              <a:gd name="textAreaRight" fmla="*/ 401400 w 458640"/>
              <a:gd name="textAreaTop" fmla="*/ 86400 h 346320"/>
              <a:gd name="textAreaBottom" fmla="*/ 259920 h 34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C6B-C342-442B-A3C8-A4EC08623F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rebird‘s Multi-Generational Architecture (MGA) – A flexible approach for concurrency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Firebird doesn‘t use page/table/record locks to ensure a consistent view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Firebird maintains different versions of one record („Versioning“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Each change of a record is reflected in a new record vers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Back (old) record versions only for internal (engine)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eaders don‘t block writers and writers don‘t block readers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Where is a transaction lo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Due to the MGA, Firebird doesn‘t have/need a transaction log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Recovery is simply rolling active transactions b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5616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everal reasons to keep track of data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080-CB0D-44D6-9C42-51F941873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pplication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erver-side audit tr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 LogManager product fami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050920"/>
            <a:ext cx="458640" cy="346320"/>
          </a:xfrm>
          <a:custGeom>
            <a:avLst/>
            <a:gdLst>
              <a:gd name="textAreaLeft" fmla="*/ 57240 w 458640"/>
              <a:gd name="textAreaRight" fmla="*/ 401400 w 458640"/>
              <a:gd name="textAreaTop" fmla="*/ 86400 h 346320"/>
              <a:gd name="textAreaBottom" fmla="*/ 259920 h 34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6D0-BFD7-41D9-8FBE-3176993A09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Application areas (1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Log any kind of data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o answer questions like: „When, and by whom, were certain records modified, deleted or inserted?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Logs for statistical purposes (price fluctuations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Tweak your client application concerning DML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Black Box Debugging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A42-4C9F-4747-815F-7457A75E79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Application areas (2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udit trails as a necessity to conform to different application domain quality standards (US Food &amp; Drug Administration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hange log for asynchronous re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ML notification mechanism (e.g. IBO Global DML Cach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nd probably much mor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BC8-9729-46AE-8937-780F0878F6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pplication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erver-side audit tr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 LogManager product fami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778120"/>
            <a:ext cx="458640" cy="345960"/>
          </a:xfrm>
          <a:custGeom>
            <a:avLst/>
            <a:gdLst>
              <a:gd name="textAreaLeft" fmla="*/ 57240 w 458640"/>
              <a:gd name="textAreaRight" fmla="*/ 401400 w 458640"/>
              <a:gd name="textAreaTop" fmla="*/ 86400 h 345960"/>
              <a:gd name="textAreaBottom" fmla="*/ 259560 h 34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01D-8AD3-4B86-B769-B9F317B471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erver-side audit trail (1/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Client vs. Server-side logging mechani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Client-side: Track data changes at the cl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Server-side: Track data changes at the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Design go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Client-independ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Best possible performance =&gt; less network traff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=&gt; Server-side audit trail is the way to go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Firebird offers everything we need for a server-side audit tr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Metadata (tables/fields, stored procedures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Triggers (server-side code module that gets executed automatically in response to a data manipulation oper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3CA-BEAB-43C5-88B3-D6F6531005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Server-side audit trail (2/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pproach 1: A log table for a particular business requirement (e.g. tracking article price chan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pproach 2: One log table for each tracked table (doubles the number of tables and log table needs to be in-sync with regular table regarding D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pproach 3: One universal log table, storing log data for each tracked t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Approach 3 is subject of this session, also used by the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B LogManager product fami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D3E-D243-4B6C-96F9-09EA3102E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omas Steinmaurer</cp:lastModifiedBy>
  <dcterms:modified xsi:type="dcterms:W3CDTF">2005-11-03T21:24:27Z</dcterms:modified>
  <cp:revision>796</cp:revision>
  <dc:subject/>
  <dc:title>PowerPoint Presentation</dc:title>
</cp:coreProperties>
</file>