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1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16600" y="3428640"/>
            <a:ext cx="4927680" cy="27306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3320" y="6082920"/>
            <a:ext cx="4940280" cy="1257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60000"/>
          </a:bodyPr>
          <a:p>
            <a:pPr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120" indent="15120">
              <a:spcBef>
                <a:spcPts val="2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0240" indent="15120">
              <a:spcBef>
                <a:spcPts val="2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45720" indent="15120">
              <a:spcBef>
                <a:spcPts val="2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60840" indent="15120">
              <a:spcBef>
                <a:spcPts val="2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60840" indent="15120">
              <a:spcBef>
                <a:spcPts val="2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60840" indent="15120">
              <a:spcBef>
                <a:spcPts val="2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168880" y="6019920"/>
            <a:ext cx="5356080" cy="0"/>
          </a:xfrm>
          <a:prstGeom prst="line">
            <a:avLst/>
          </a:prstGeom>
          <a:ln w="25560">
            <a:solidFill>
              <a:srgbClr val="d3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17080" y="2311560"/>
            <a:ext cx="8052120" cy="350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85000"/>
          </a:bodyPr>
          <a:p>
            <a:pPr marL="371160" indent="-194040"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2400" indent="-183600">
              <a:spcBef>
                <a:spcPts val="20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4800" indent="-194040">
              <a:spcBef>
                <a:spcPts val="2001"/>
              </a:spcBef>
              <a:buClr>
                <a:srgbClr val="000000"/>
              </a:buClr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6040" indent="-194040">
              <a:spcBef>
                <a:spcPts val="2001"/>
              </a:spcBef>
              <a:buClr>
                <a:srgbClr val="000000"/>
              </a:buClr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57280" indent="1348920">
              <a:spcBef>
                <a:spcPts val="2001"/>
              </a:spcBef>
              <a:buClr>
                <a:srgbClr val="000000"/>
              </a:buClr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57280" indent="1348920">
              <a:spcBef>
                <a:spcPts val="2001"/>
              </a:spcBef>
              <a:buClr>
                <a:srgbClr val="000000"/>
              </a:buClr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57280" indent="1348920">
              <a:spcBef>
                <a:spcPts val="2001"/>
              </a:spcBef>
              <a:buClr>
                <a:srgbClr val="000000"/>
              </a:buClr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2d9d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215640">
              <a:spcBef>
                <a:spcPts val="31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25480" indent="-216000">
              <a:spcBef>
                <a:spcPts val="31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68560" indent="-216000">
              <a:spcBef>
                <a:spcPts val="31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511280" indent="-216000">
              <a:spcBef>
                <a:spcPts val="31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866960" indent="-216000">
              <a:spcBef>
                <a:spcPts val="31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866960" indent="-216000">
              <a:spcBef>
                <a:spcPts val="6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866960" indent="-216000">
              <a:spcBef>
                <a:spcPts val="6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146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117080" y="2273400"/>
            <a:ext cx="393732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73000"/>
          </a:bodyPr>
          <a:p>
            <a:pPr marL="318600" indent="-166680">
              <a:spcBef>
                <a:spcPts val="31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57680">
              <a:spcBef>
                <a:spcPts val="31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28360" indent="-166680">
              <a:spcBef>
                <a:spcPts val="3101"/>
              </a:spcBef>
              <a:buClr>
                <a:srgbClr val="000000"/>
              </a:buClr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8560" indent="-166680">
              <a:spcBef>
                <a:spcPts val="3101"/>
              </a:spcBef>
              <a:buClr>
                <a:srgbClr val="000000"/>
              </a:buClr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1360" indent="1158480">
              <a:spcBef>
                <a:spcPts val="3101"/>
              </a:spcBef>
              <a:buClr>
                <a:srgbClr val="000000"/>
              </a:buClr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51360" indent="1158480">
              <a:spcBef>
                <a:spcPts val="3101"/>
              </a:spcBef>
              <a:buClr>
                <a:srgbClr val="000000"/>
              </a:buClr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51360" indent="1158480">
              <a:spcBef>
                <a:spcPts val="3101"/>
              </a:spcBef>
              <a:buClr>
                <a:srgbClr val="000000"/>
              </a:buClr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146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5511960" y="2235240"/>
            <a:ext cx="3657600" cy="439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71000"/>
          </a:bodyPr>
          <a:p>
            <a:pPr marL="309960" indent="-162000">
              <a:spcBef>
                <a:spcPts val="31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3320" indent="-153360">
              <a:spcBef>
                <a:spcPts val="31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5680" indent="-162000">
              <a:spcBef>
                <a:spcPts val="3101"/>
              </a:spcBef>
              <a:buClr>
                <a:srgbClr val="000000"/>
              </a:buClr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49040" indent="-162000">
              <a:spcBef>
                <a:spcPts val="3101"/>
              </a:spcBef>
              <a:buClr>
                <a:srgbClr val="000000"/>
              </a:buClr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17160" indent="1126800">
              <a:spcBef>
                <a:spcPts val="3101"/>
              </a:spcBef>
              <a:buClr>
                <a:srgbClr val="000000"/>
              </a:buClr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17160" indent="1126800">
              <a:spcBef>
                <a:spcPts val="3101"/>
              </a:spcBef>
              <a:buClr>
                <a:srgbClr val="000000"/>
              </a:buClr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17160" indent="1126800">
              <a:spcBef>
                <a:spcPts val="3101"/>
              </a:spcBef>
              <a:buClr>
                <a:srgbClr val="000000"/>
              </a:buClr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436680" indent="-228600">
              <a:spcBef>
                <a:spcPts val="3900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16000">
              <a:spcBef>
                <a:spcPts val="39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5080" indent="-228600">
              <a:spcBef>
                <a:spcPts val="3900"/>
              </a:spcBef>
              <a:buClr>
                <a:srgbClr val="000000"/>
              </a:buClr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7800" indent="-228600">
              <a:spcBef>
                <a:spcPts val="3900"/>
              </a:spcBef>
              <a:buClr>
                <a:srgbClr val="000000"/>
              </a:buClr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1587240">
              <a:spcBef>
                <a:spcPts val="3900"/>
              </a:spcBef>
              <a:buClr>
                <a:srgbClr val="000000"/>
              </a:buClr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1587240">
              <a:spcBef>
                <a:spcPts val="3900"/>
              </a:spcBef>
              <a:buClr>
                <a:srgbClr val="000000"/>
              </a:buClr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1587240">
              <a:spcBef>
                <a:spcPts val="3900"/>
              </a:spcBef>
              <a:buClr>
                <a:srgbClr val="000000"/>
              </a:buClr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tom.cole@sas.com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6600" y="3428640"/>
            <a:ext cx="4927680" cy="27306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SAS® Software</a:t>
            </a:r>
            <a:br>
              <a:rPr sz="3800"/>
            </a:b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and Firebird</a:t>
            </a:r>
            <a:br>
              <a:rPr sz="3800"/>
            </a:br>
            <a:br>
              <a:rPr sz="3800"/>
            </a:br>
            <a:r>
              <a:rPr b="0" i="1" lang="en-US" sz="2400" spc="-1" strike="noStrike">
                <a:solidFill>
                  <a:srgbClr val="002d9d"/>
                </a:solidFill>
                <a:latin typeface="Arial"/>
              </a:rPr>
              <a:t>Firebird Conference 2005</a:t>
            </a:r>
            <a:br>
              <a:rPr sz="2400"/>
            </a:br>
            <a:endParaRPr b="0" lang="en-US" sz="24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143320" y="6082920"/>
            <a:ext cx="4940280" cy="1257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 Cole, Platform R&amp;D, SAS Institute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om.cole@sa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4FA2-4440-4B7E-AE7F-EA1F0D7267BC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SAS® Table Services Features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17080" y="2311560"/>
            <a:ext cx="8052120" cy="350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ANSI SQL 1999 core-compliant syntax for historical data sources (Base SAS, SP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pass-through to provider-specific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ted (cross-database) quer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ted (cross-provider) security management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e interface for all SAS I/O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38BD-FAD4-4FB8-A094-B257BEB00833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The need for a transactional store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17080" y="2311200"/>
            <a:ext cx="8052120" cy="450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S® has never had a transactional store of our 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usage scenarios of SAS don’t require transactions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a driver interface in an earlier architecture to access range of relation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of metadata, objects, solutions, etc. mean we now need an ACID compliant store for many more usage scen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D118-EA9E-493B-A803-9C558F55A810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Enterprise Class Customers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7080" y="2311560"/>
            <a:ext cx="8052120" cy="469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ed from individual knowledge worker to mission critical, multi-user, n-tier config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, SAS® is used heavily in Fortune 100 companies as an integral part of large-scale IT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deployments are 64-bit systems, 4-8 CPU’s, with 16-32GB of RAM, and terabytes of disk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our customers, time is most often the limiting resource - consuming system resources to complete a job in a fixed window of time is a good trade-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97B1-305B-43C6-9284-B65999E75556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Business case for Open Source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7080" y="2311560"/>
            <a:ext cx="8052120" cy="350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vs. Buy” - don’t build it, there are good ones out there already based on years of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to leverage large body of expertise and development infra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S® can focus on it’s product-specific goals and leverage our expertise in tandem with th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4779-421F-4994-A72D-D02076F059F1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Challenges of Open Source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7080" y="2311560"/>
            <a:ext cx="8052120" cy="350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ing design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ing releas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ing product delivery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ense requirements and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7BC4-7F3E-41DD-8481-9779B9D906B9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Why Firebird/Vulcan?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17080" y="2311200"/>
            <a:ext cx="8052120" cy="422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ability objectives fit well - SMP support required, not just scalability through process re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ded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likely to be successfully ported to wide range of host platforms we mus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community open to our invol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ensing flexibility and low c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6B48-37AE-4AE4-87C7-5AD6E91ACE55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Table Server Driver Architecture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2133720" y="2006640"/>
            <a:ext cx="5587920" cy="4770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3FF9-8AA7-47C7-B939-9E1A1C51D44D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SAS® Table Server Architecture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17080" y="2311560"/>
            <a:ext cx="8052120" cy="483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Server handles connection management using SAS-specific connection string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Server handles authentication requirements using a federated security data st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Server identifies the required provider(s) for a request, and ensures proper drivers are loa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Server evaluates the SQL to determine if it must be recomposed or restructured for execution by multiple dri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7514-CAC1-41CF-9C01-95380CD08B17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SAS® Table Server Architecture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17080" y="2311560"/>
            <a:ext cx="8052120" cy="350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Server can process all the SQL directly in a driver-neutral ANSI standard fashion, and convert it to appropriate driver-specific dial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Server translates SAS-specific data types (special missing values, for example) and has access to the library of SAS formats and functions which can be used directly in SQL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49C7-1124-469F-91C1-D79D7E6E2739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Vulcan and SAS® Table Server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17080" y="2311560"/>
            <a:ext cx="8052120" cy="509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able Server driver written for Vulcan translates Table Server interfaces and semantics into Vulcan interface calls and seman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river arranges for any needed data type translations, character set management, and error hand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river is dynamically loaded on demand by the Table Server based on client requests.  The driver manages the loading (and optionally unloading) of the Vulcan shared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CD18-5642-4534-AFA1-F3221B410B63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SAS® and </a:t>
            </a:r>
            <a:r>
              <a:rPr b="0" i="1" lang="en-US" sz="3800" spc="-1" strike="noStrike">
                <a:solidFill>
                  <a:srgbClr val="002d9d"/>
                </a:solidFill>
                <a:latin typeface="Arial"/>
              </a:rPr>
              <a:t>Vulcan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7080" y="2311560"/>
            <a:ext cx="8052120" cy="350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S and a new I/O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Vulc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Vulcan and SAS fit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0450-B671-4CC4-A103-EAC34F9439FF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Vulcan and SAS® Table Server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17080" y="2311560"/>
            <a:ext cx="8052120" cy="471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ded Vulcan provides a very efficient database engine, without the performance costs of an additional hop to a provi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ulcan’s locking model supports multiple instances of Table Server accessing the same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ulcan’s thread-safe implementation partners effectively with Table Server’s thread pooling and resource management to support scal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support hot backups of running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72F2-9A6F-4169-B880-2B53BDCF7D3E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Vulcan and SAS® Table Server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7080" y="2311560"/>
            <a:ext cx="8052120" cy="4876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ur first release of Table Server in 2006, we do not expect end users to directly interact with Vul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want them to go through Table Server to interact with “our” transactional data st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vide an administrative interface that supports DBA functions via a Java application, which is common to all SAS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ship adapted versions of GBAK, etc. to support DBA and system management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6408-FE4B-4C0B-AB88-90EE8B1AEE62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The Vulcan Environment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17080" y="2311560"/>
            <a:ext cx="8052120" cy="3784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ble Server driver explicitly sets process environment variables (VULCAN, VULCAN_CONF, etc.) to point to the SAS®-installed instance of Vul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Server handles authentication and authorization to achieve federated security.  Vulcan is invoked essentially as “SYSDBA”.  Security is disab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-installed instances of Vulcan shouldn’t collide with our use of Vul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17E8-1ED1-4EB9-ABA6-717A5F57FFFE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Building Vulcan across platforms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17080" y="2311560"/>
            <a:ext cx="8052120" cy="350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eploy Vulcan on VMS, MVS, Windows, and Linux, as well as all name-brand Unix 64-bit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use an in-house source management, build and debug environment that supports multi-platform bui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s on some platforms (MVS in particular) introduce additional constraints on building, such as header file lo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39EF-C790-487C-8C9A-3005D2FC8F7C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Project Goals and Synchronization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17080" y="2311200"/>
            <a:ext cx="8052120" cy="433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S® development priority is portability and scalability for commercial release in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priority is in architectural review and re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re ultimately required, but compete with each other in the near-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focus has been on Firebird much more than on Vul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CC27-096B-4E8B-8D76-7EC12E4D2EBC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How many Vulcans?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17080" y="2311560"/>
            <a:ext cx="8052120" cy="477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fortunate consequence is that right now, there are (at least) two versions of Vul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urceForge version is changing rapidly with class-restructuring, etc. driving much needed architectural changes at the cost of st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S® version (maintained privately) changes more slowly, and undergoes rigorous testing on multiple platforms with diverse lo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goals are valid and needed, but conflict in the short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75F5-86CA-4B63-B0AE-76D4CF1C363D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SAS®-Specific Vulcan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7080" y="2311560"/>
            <a:ext cx="8052120" cy="372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environment issues mean we do not mirror the open source build tree, but instead restructure it when we up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n our environment file names cannot be duplicated in different directories (only one copy of ibase.h allowed,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tools allow us to translate source files between our environment and the SourceForge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0B0D-8F26-4912-B2A5-CDB62E836D14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SAS®-Specific Vulcan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17080" y="2311560"/>
            <a:ext cx="8052120" cy="4736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regularly pull specific bug fixes into our code base from SourceFo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intent is to provide batches of updates when we find and fix bugs - though we need to improve that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using  #ifdef SAS_FIREBIRD to demarcate changes in open source files that we must post publicly to meet license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S-specific implementations in separate source files, called/included from conventional 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3ADD-4FB6-4D22-B421-30F55BB98043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SAS®-Specific Vulcan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17080" y="2311560"/>
            <a:ext cx="8052120" cy="4241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_CACHE is not defined in our build; i.e. per-connection caching is done.  This is different than the default build.  Additional locking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-statement cancel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-line tools define environment (VULCAN, VULCAN_CONF, etc.) based on directory of inv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S$METADATA table added to all databases to track additional Table Server-specific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10B9-07E0-4A85-8911-70ABA966CBBD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Reconciling Vulcan and Firebird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17080" y="2311200"/>
            <a:ext cx="8052120" cy="4444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Vulcan was branched from Firebird, a lot has been changed in Fireb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these features (expressions in indexes, for example) are critical for our future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discussions have occurred about the challenges of finding a way to merge them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S sees this as essential for the long-term success of Firebird over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FB35-CEE5-4E7A-B207-5DACD9B4D4CA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Shifting Technical Requirements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17080" y="2311560"/>
            <a:ext cx="8052120" cy="438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S® has long had an architecture that focussed on reading massive amounts of data and applying analytical processing to that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on our strengths in data manipulation and key analytics such as forecasting, we have added a “solutions” suite to our traditional “tools” su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olutions bring new technical challenges, and new requirements for I/O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9F19-653F-4A4B-876F-A69EB21DFF07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Conclusion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7080" y="2311200"/>
            <a:ext cx="8052120" cy="492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ebird community has made it possible for us tightly integrate a transactional DB far more quickly than we could have accomplished on our 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formance and scalability potential of the Vulcan design fit well with “enterprise class”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-term divergence of goals mean our participation in the community has been lim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longer-term goal is to re-synch with the “one true” Vulcan, and be an active participant in advocating for embedded usage of Vul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96ED-5D3A-4637-B623-88BFA972A70D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For More Information...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17080" y="2311560"/>
            <a:ext cx="8052120" cy="443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the paper on “Embedded Classic” about how we use the Classic model of caching in the thread-safe embedded use of Vulcan, via the SHARED_CACHE compile-time symbol and it’s effect on loc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the paper “SAS/Firebird Porting And Testing Processes” for more information on our infra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the related paper on “SAS/Firebird Performance Testing Strategy” on how we stress-test the scalability of the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6E06-67B9-4BFD-93FA-1D851E3FCA30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426360" y="1828800"/>
            <a:ext cx="30477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Gill Sans"/>
                <a:ea typeface="Gill Sans"/>
              </a:rPr>
              <a:t>Q&amp;A?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ACE4-B1A6-4859-B243-11AAB64F6AD1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SAS® Technical History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7080" y="2311200"/>
            <a:ext cx="8052120" cy="450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’s - SAS grows from university research project to corporation, initial implementation on MVS in PL/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’s - Portability drives migration to C and major re-structure of architecture with “host” layer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0’s - Rapid evolution in RISC, storage, networking technology demands vertical performance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’s - SMP and 64 bits demand horizontal performance foc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9E6F-114C-4BBF-86DE-06F2B2874D68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Analytical I/O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17080" y="2311200"/>
            <a:ext cx="8052120" cy="46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ources often read-only or ETL to ware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abyte and Petabyte data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wide tables (thousands of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kinds of processing very order sensitive, justifying intermediate s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equential with occasional rewinds to start of sorted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DC44-E895-4EFE-9E4B-1E8BE5AA161E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Non-analytical I/O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7080" y="2311560"/>
            <a:ext cx="8052120" cy="350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 focus brings new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requires new metadata 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 require new security, profil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with 3rd party requirements for object persistence, such as J2EE Application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F446-E52B-44F6-B72C-67BCED97A90E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New Requirements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17080" y="2311560"/>
            <a:ext cx="8052120" cy="350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al Store -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user: Hundreds -&gt; Thousands of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P and cluster explo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, non-analytic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mless interoperation with historical I/O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085A-F741-43BA-A4D2-333ADC897B55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SAS® Table Servic</a:t>
            </a:r>
            <a:r>
              <a:rPr b="0" lang="en-US" sz="3800" spc="-1" strike="noStrike" u="sng">
                <a:solidFill>
                  <a:srgbClr val="002d9d"/>
                </a:solidFill>
                <a:uFillTx/>
                <a:latin typeface="Arial"/>
              </a:rPr>
              <a:t>es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7080" y="2311200"/>
            <a:ext cx="8052120" cy="38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edesign of SAS I/O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 historical analytical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new ODBC 3 interfaces,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threaded with scalable resourc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as an embedded library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-in drive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D918-41F9-45F9-8D31-6DD22925D3F0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7899480" cy="2565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d9d"/>
                </a:solidFill>
                <a:latin typeface="Arial"/>
              </a:rPr>
              <a:t>SAS® Table Serv</a:t>
            </a:r>
            <a:r>
              <a:rPr b="0" lang="en-US" sz="3800" spc="-1" strike="noStrike" u="sng">
                <a:solidFill>
                  <a:srgbClr val="002d9d"/>
                </a:solidFill>
                <a:uFillTx/>
                <a:latin typeface="Arial"/>
              </a:rPr>
              <a:t>er</a:t>
            </a:r>
            <a:endParaRPr b="0" lang="en-US" sz="3800" spc="-1" strike="noStrike">
              <a:solidFill>
                <a:srgbClr val="002d9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7080" y="2311200"/>
            <a:ext cx="8052120" cy="402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ed, scalable server for n-tie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s connections, thread-poolin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AS Table Serv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ctual I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s as persistent object server for mid-tier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s as I/O server for server and mid-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228600">
              <a:lnSpc>
                <a:spcPct val="100000"/>
              </a:lnSpc>
              <a:spcBef>
                <a:spcPts val="2001"/>
              </a:spcBef>
              <a:buClr>
                <a:srgbClr val="d39a00"/>
              </a:buClr>
              <a:buSzPct val="120000"/>
              <a:buFont typeface="Lucida Grande"/>
              <a:buChar char="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accessed by user or 3rd part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952520" y="7257960"/>
            <a:ext cx="2415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B6AC-EB9B-4A37-8FF6-A29386C8B427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