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3600" y="4296960"/>
            <a:ext cx="919008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4484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2760" y="1600200"/>
            <a:ext cx="4484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3600" y="4296960"/>
            <a:ext cx="4484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2760" y="4296960"/>
            <a:ext cx="4484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29588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0760" y="1600200"/>
            <a:ext cx="29588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77920" y="1600200"/>
            <a:ext cx="29588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3600" y="4296960"/>
            <a:ext cx="29588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0760" y="4296960"/>
            <a:ext cx="29588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77920" y="4296960"/>
            <a:ext cx="29588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4484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2760" y="1600200"/>
            <a:ext cx="4484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2680" y="806040"/>
            <a:ext cx="9277200" cy="36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4484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2760" y="1600200"/>
            <a:ext cx="4484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3600" y="4296960"/>
            <a:ext cx="4484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4484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2760" y="1600200"/>
            <a:ext cx="4484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2760" y="4296960"/>
            <a:ext cx="4484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4484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2760" y="1600200"/>
            <a:ext cx="4484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3600" y="4296960"/>
            <a:ext cx="919008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0280" y="61920"/>
            <a:ext cx="3844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ss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NRY-P209-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aker: Paul Be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37640" y="7248600"/>
            <a:ext cx="114624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hancery L"/>
              </a:rPr>
              <a:t>Slide </a:t>
            </a:r>
            <a:fld id="{F3B7328E-6197-4C67-9EC6-A14D011B2317}" type="slidenum">
              <a:rPr b="0" lang="en-US" sz="1400" spc="-1" strike="noStrike">
                <a:solidFill>
                  <a:srgbClr val="ffff00"/>
                </a:solidFill>
                <a:latin typeface="Chancery 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72320" y="7020000"/>
            <a:ext cx="23194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The Firebird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3" marL="1727280" indent="-21600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4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5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6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3240" y="587160"/>
            <a:ext cx="92790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irebird Future Development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63600" y="1591920"/>
            <a:ext cx="919152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Paul Beach &amp; Dimitry Yemanov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uture Version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Merge Firebird 2.0 and Vulcan for Firebird 3.0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Vulcan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Globally refactored code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Fine grained multi-threading (SMP)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Unified provider based architecture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Flexible configuration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Database level authentication and improved security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8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Internal DSQL implementation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irebird 3.0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As short a release cycle as possible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No major new features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Will incorporate new features already functionally complete but didn’t make it into 2.0, plus other 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Fyracle, Yaffil, Private Builds, Considered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irebird 3.0 New Feature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Recursive Queries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Developed by Paul Ruizendaal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Implement SQL required to support recursive queries as per the SQL specification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Global Temporary Tables (SQL99)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Developed by Vlad Horsun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New Built In Functions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Developed by Oleg Loa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8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tring, Math, Date and Time, Binary etc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irebird 3.0 New Feature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Monitoring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Monitoring via the API or special tabl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Perform “Snaphot” monitoring of the internal activities of the database engine to provide information on, databases, attachments, transactions, active requests, resource usage etc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Asynchronous Statement Cancellation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Allow any of the following actions, cancel a running statement, rollback a transaction, kill an attachment. 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Allow the ability to set timeouts for SQL statement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irebird 3.0 New Feature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External Procedures and Functions (SQL99)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Develop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vgeny Putilin</a:t>
            </a: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, Roman Rokytskyy and Vlad Horsun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Allow the ability to create procedures and functions written in non PSQL languages e.g. Java, .NET, cdecl etc.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Nearly complete, requires a decision on the callback API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0">
              <a:lnSpc>
                <a:spcPct val="101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irebird 3.0 New Feature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Embedded Users, SQL Users management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Developed by Jim Starkey (Vulcan)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Allow in database management of user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Full SMP support for SuperServer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Developed by Jim Starkey (Vulcan)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elf explanatory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Support the caching and reuse of compiled statements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8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Partially developed by Jim Starkey (Vulcan)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3" marL="1727280" indent="0">
              <a:lnSpc>
                <a:spcPct val="101000"/>
              </a:lnSpc>
              <a:spcAft>
                <a:spcPts val="575"/>
              </a:spcAft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1" lang="en-US" sz="20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irebird 3.0 New Feature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Faster Outer Joins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Implement the merge algorithm for outer join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Next Step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When Firebird 3.0 is released for testing…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Development of the next version starts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Firebird V3.0+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9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Major ODS Chang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9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Administration improvement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9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Tracing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91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ecurity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91000"/>
              </a:lnSpc>
              <a:spcAft>
                <a:spcPts val="850"/>
              </a:spcAft>
              <a:buSzPct val="100000"/>
              <a:buBlip>
                <a:blip r:embed="rId8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91000"/>
              </a:lnSpc>
              <a:spcAft>
                <a:spcPts val="850"/>
              </a:spcAft>
              <a:buSzPct val="100000"/>
              <a:buBlip>
                <a:blip r:embed="rId9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QL improvement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91000"/>
              </a:lnSpc>
              <a:spcAft>
                <a:spcPts val="850"/>
              </a:spcAft>
              <a:buSzPct val="100000"/>
              <a:buBlip>
                <a:blip r:embed="rId10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Updated Remote Protocol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Development Prioritie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Reliability and Safety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Administration and Monitoring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Compliance with the SQL Specification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Performance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Language Enhancements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Point Release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Expect 2.0.x releases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Bug fixes back ported from HEAD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2.1 (Global Temporary Tables, WITH RECURSIVE) ?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Review of Firebird 2.0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What's Important?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New Features?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Number of Bugs Fixed?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Removal of Architectural Limits?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Timetable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2005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Release 2.0 (at least to RC stage)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Release Vulcan (at least to RC stage)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Fork 2.0 HEAD to create release branch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Port independent changes to HEAD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Fork Vulcan HEAD to be 3.0 development branch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Timetable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2006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81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Q1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Release Firebird 2.0 Final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Release Vulcan Final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81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Q2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Release Firebird 3.0 Beta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Fork 3.0 HEAD to create 3.0+ development branch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81000"/>
              </a:lnSpc>
              <a:spcAft>
                <a:spcPts val="1137"/>
              </a:spcAft>
              <a:buSzPct val="100000"/>
              <a:buBlip>
                <a:blip r:embed="rId8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Q3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9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Release Firebird 3.0 Final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81000"/>
              </a:lnSpc>
              <a:spcAft>
                <a:spcPts val="1137"/>
              </a:spcAft>
              <a:buSzPct val="100000"/>
              <a:buBlip>
                <a:blip r:embed="rId10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Q4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Release Firebird 3.0+ Beta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On The Table: Admin, Tracing, Monitoring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Detailed Logging / Audit, allow the logging of events on the server.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Detailed SQL Tracing and Profiling, detailed access paths, count rows, profile CPU time, extend current runtime statistic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DDL Level and Global Triggers, allow triggers on CREATE/ALTER/DROP, implement attachment and transaction level trigger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PSQL Debugging Extensions, by allowing looper breakpoints, handler callbacks, retrieval of context data etc.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On The Table: Security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User Permissions for Metadata, protect all metadata with security classes, add database level permission like BACKUP, DROP etc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Pluggable authentication modules, e.g. native OS on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ecurity Groups, implement group based security as an alternative to the existing role based model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Database encryption, allow the optional encryption of database files.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On The Table: Language Extension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2" marL="1243440" indent="-20700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chemas and Namespac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43440" indent="-20700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Native Long Numeric Datatype, implement exact numeric datatype (precision +30) and appropriate BCD math.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43440" indent="-20700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More built in function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43440" indent="-20700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Temporary Schema Objects and Transient Dataset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43440" indent="-20700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Longer metadata names (128 Unicode characters)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43440" indent="-20700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CREATE, ALTER, DROP Function as per SQL99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43440" indent="-20700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Allow use of domains in PSQL paramters and variables, and also the CAST function.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43440" indent="-20700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8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Allow use of regular expressions in search condition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43440" indent="-20700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9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TEXT BLOB compatible with CHAR, VARCHAR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On The Table: Language Extension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Deferred Constraints, implement commit time constraint checking as per the SQL specification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On The Table: Performance, Optimiser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Continuous Improvement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More Access Paths, consider use of hash join, hash aggregate and other retrieval algorithm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More Effective Sorting, implement partial sorting to speed up FIRST limited retrievals. Sort record numbers rather than whole rows.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Optimised Network Protocol, avoid sending unnecessary data, improve compression etc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On The Table: Maintenance, Recovery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Reliable Logical Backup, only case of an unrestorable backup, is if the backup is physically corrupted. Allow partial restore etc.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Point In Time Recovery, optional ability to maintain a redo log in order to roll over to last logical backup.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Database Mirroring over the Network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On The Table: Generic, Architecture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2" marL="1230480" indent="-2048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tatement Transaction Consistency, solve known inconsistencies in verbs, transactions. Make read committed transactions SQL specification compliant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30480" indent="-2048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External Data Sources, Database Links, Cross Database SQL, allow retrievals from external data sources, provide drivers (native Firebird, JDBC, ODBC), add DDL and DML to use these sources.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30480" indent="-2048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Full Text Search, add FTS features inside the engine or implement an appropriate plug-in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30480" indent="-2048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Clustering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30480" indent="-2048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Bi-Directional Indic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30480" indent="-2048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Referential Integrity without Indices, implement optional FK’s that are not enforced by indic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On The Table: Generic, Architecture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Bulk Load/Import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Bi-Directional Cursor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XML Integration, provide fetch and insert, BLOB TYPE XML, xpath queri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Architectural Limit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Undocumented Table Size Limit (35GB)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32bit to 64 bit record enumerators internally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252 byte index limit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New index structure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Now dependent on the page size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Improved index compression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Per index segment selectivity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8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Improved key lookups on large duplicate chains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GC Duplicate Index Nodes, very slow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0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Fixed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Choose your GC policy, co-op, background, combined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Bigger page cache = slower performance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Buffer cache improvements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Maximum page size cache 128k pages (2GB if 16k page)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irebird 3.0+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Detailed Logging, Audit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QL Tracing and Profiling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User Permissions for metadata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Pluggable Authentication Modul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ecurity Group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Long exact numeric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Domains everywhere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8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Regular Expression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9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TEXT BLOB compatible with CHAR and VARCHAR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0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Reliable logical backup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Optimiser improvement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irebird 3.0+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tatement consistency, read committed compliance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Optimised Network Protocol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Bi-directional indic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Referential integrity without indic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Bulk load/import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irebird 3.0++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PSQL debugging, extensions and hook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Database encryption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More access path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Full Text Search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Clustering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Bi-directional cursor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XML integration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Architectural Limit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Incorrect Optimiser Strategi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Improved PLAN clause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Faster evaluation of IN() and OR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Improved unique retrieval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NOT conditions optimised via index where possible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Distribute HAVING conjunctions to the WHERE clause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Distribute UNION conjunctions to the inner streams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8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Improved handling of CROSS JOIN and Merge/SORT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9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Better choice of join order for mixed INNER/OUTER joins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0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Equality comparison on expressions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Improved support for IS NULL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Improved support for STARTING WITH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Matching of both OR and AND nodes to Indexes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Improved cost estimations for JOINS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Lib BT"/>
              </a:rPr>
              <a:t>Indexed order for OUTER joins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Architectural Limit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Weak International Support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Completely new international interface for non ASCII Character sets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Fast Backup and Restore?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Nbackup, incremental backup capability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ecurity Issue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New security database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Improved password encryption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8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Users can modify their own passwords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9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Non server access to the security database is rejected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0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Active protection from a brute force attack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Exclusive access for RI declaration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No longer required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Architectural Limits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0">
              <a:lnSpc>
                <a:spcPct val="81000"/>
              </a:lnSpc>
              <a:spcAft>
                <a:spcPts val="850"/>
              </a:spcAft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Not enough built in functions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LOWER()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TRIM() (bit_length, char_length, octet_length)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Unreliable database shutdown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fixed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Support for AMD 64bit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81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dLib BT"/>
              </a:rPr>
              <a:t>Impoved ISQL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8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-bail (bail out on error when used non-interactively)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9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-m2 (output statistics and plans)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0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SET HEAD(ING)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1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SHOW UDFs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81000"/>
              </a:lnSpc>
              <a:spcAft>
                <a:spcPts val="850"/>
              </a:spcAft>
              <a:buSzPct val="100000"/>
              <a:buBlip>
                <a:blip r:embed="rId1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dLib BT"/>
              </a:rPr>
              <a:t>SET SQLDA_DISPLAY</a:t>
            </a:r>
            <a:endParaRPr b="1" lang="en-US" sz="1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Addressed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Fixed, or significantly reduced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Continuing strategy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This is what open source is about…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New features are nice but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Fixing developer issues and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Lib BT"/>
              </a:rPr>
              <a:t>Fixing bugs are more important</a:t>
            </a:r>
            <a:endParaRPr b="1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Comparatively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Version 1.0x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32 Improvements, 55 Bug Fixes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Version 1.5x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58 Improvements, 94 Bug Fixes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Lib BT"/>
              </a:rPr>
              <a:t>Version 2.0 Beta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82 Improvements, 140 Bug Fixes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Lib BT"/>
              </a:rPr>
              <a:t>Release Notes are 104 pages long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2680" y="806040"/>
            <a:ext cx="9277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olsville"/>
              </a:rPr>
              <a:t>Firebird 2.0</a:t>
            </a:r>
            <a:endParaRPr b="1" lang="en-US" sz="3600" spc="-1" strike="noStrike">
              <a:solidFill>
                <a:srgbClr val="ff0000"/>
              </a:solidFill>
              <a:latin typeface="Coolsvil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9190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dLib BT"/>
              </a:rPr>
              <a:t>Due to go into beta</a:t>
            </a:r>
            <a:endParaRPr b="1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New ODS, so backup and restore from 1.5 to 2.0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Beta ODS different to Alphas!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dLib BT"/>
              </a:rPr>
              <a:t>Needs testing and feedback!</a:t>
            </a:r>
            <a:endParaRPr b="1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each</cp:lastModifiedBy>
  <dcterms:modified xsi:type="dcterms:W3CDTF">2005-11-11T11:28:30Z</dcterms:modified>
  <cp:revision>4</cp:revision>
  <dc:subject/>
  <dc:title>Firebird Future Development</dc:title>
</cp:coreProperties>
</file>