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319-7B56-4C3E-8C40-D6C77E37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3248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FA1-88E9-4803-A2FE-E7F73922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6CB-CF2E-46FB-961E-EC67543C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324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324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324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2EC-26D4-4E21-A110-64BC40E5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49E-5B5E-4D4F-B940-FBDA0470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BF1-2975-4115-B1E5-34847FBF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D03-70E1-4230-B4C0-B7912B16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D6B-94AD-4510-879D-B2E0B2EF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063-71BE-4A8E-8E54-FA5E28F7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AB1-41AC-439A-9E23-E4586459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43B-1F07-4E96-8D21-FC2BC13A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248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9A7-D8FA-462E-A67C-80A41E40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b11"/>
                </a:solidFill>
                <a:latin typeface="AvantGarde"/>
              </a:rPr>
              <a:t>Click to edit the title text format</a:t>
            </a: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Click to edit the outline text format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1" marL="277560" indent="-277560">
              <a:spcBef>
                <a:spcPts val="799"/>
              </a:spcBef>
              <a:buClr>
                <a:srgbClr val="014b11"/>
              </a:buClr>
              <a:buFont typeface="AvantGar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Second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2" marL="277560" indent="-277560">
              <a:spcBef>
                <a:spcPts val="799"/>
              </a:spcBef>
              <a:buClr>
                <a:srgbClr val="014b11"/>
              </a:buClr>
              <a:buFont typeface="AvantGar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Third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3" marL="277560" indent="-277560">
              <a:spcBef>
                <a:spcPts val="799"/>
              </a:spcBef>
              <a:buClr>
                <a:srgbClr val="014b11"/>
              </a:buClr>
              <a:buFont typeface="AvantGar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Fourth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4" marL="277560" indent="-277560">
              <a:spcBef>
                <a:spcPts val="799"/>
              </a:spcBef>
              <a:buClr>
                <a:srgbClr val="014b11"/>
              </a:buClr>
              <a:buFont typeface="AvantGar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Fifth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5" marL="277560" indent="-277560">
              <a:spcBef>
                <a:spcPts val="799"/>
              </a:spcBef>
              <a:buClr>
                <a:srgbClr val="000000"/>
              </a:buClr>
              <a:buFont typeface="AvantGar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Sixth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lvl="6" marL="277560" indent="-277560">
              <a:spcBef>
                <a:spcPts val="799"/>
              </a:spcBef>
              <a:buClr>
                <a:srgbClr val="000000"/>
              </a:buClr>
              <a:buFont typeface="AvantGar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Seventh Outline Level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6511-1129-40CC-B546-60FA99C698E2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6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2920" y="617220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CFAF-B3DB-4816-B6DA-C3F282A43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467480" y="5410080"/>
            <a:ext cx="1003320" cy="100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4b11"/>
                </a:solidFill>
                <a:latin typeface="AvantGarde"/>
              </a:rPr>
              <a:t>Vulcan</a:t>
            </a:r>
            <a:endParaRPr b="0" lang="en-US" sz="40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Jim Starkey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Netfrastructur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jas@netfrastructure.com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Vulcan Providers – </a:t>
            </a:r>
            <a:br>
              <a:rPr sz="3600"/>
            </a:b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Abstract Data Manager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 provider a loadable library that implements the provider API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Examples of provider: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current engin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engine from the prior releas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remote interface for server acces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gateway to pre-Vulcan Firebird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gateway to current and legacy Interbas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Provider selection is automatic under configuration control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Firebird Engine Build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uper server – single process, multi-threaded, single page cach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Classic – multiple processes, each with separate page cach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Embedded – single process, no sharing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  <a:ea typeface="Times New Roman"/>
              </a:rPr>
              <a:t> 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Vulcan Engine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Per-database configuration determines: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Local engine, shared server, or gateway to legacy system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Location of serve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Whether local engine shares database file (embedded or classic mode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Whether server shares database file (classic or Superserver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ingle client library for all options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Providers (engines, gateways, remote interfaces) are loaded on demand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  <a:ea typeface="Times New Roman"/>
              </a:rPr>
              <a:t> 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Vulcan Security</a:t>
            </a: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Each database can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Use named security database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Function as own security database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Have security disabled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New DDL statements to create, alter, and drop user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New security API to propagate user data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ecurity plugin architecture for extensible security contro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Major Internal Change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Re-established separation of Y-valve and engin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QL moved from Y-valve to engin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Architectural support for compiled statement cach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ransformation internal record streams to type hierarchy is underway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  <a:ea typeface="Times New Roman"/>
              </a:rPr>
              <a:t> 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Major Internal Change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Object encapsulation of internal mechanisms include: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atabase page cache manager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Lock Manage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atabase Manager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QL Parse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ompiled request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ecurity Manage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Vulcan – What’s Missing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14b11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  <a:ea typeface="Arial"/>
              </a:rPr>
              <a:t>An installation procedur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609480" indent="-609480">
              <a:spcBef>
                <a:spcPts val="700"/>
              </a:spcBef>
              <a:buClr>
                <a:srgbClr val="014b11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  <a:ea typeface="Arial"/>
              </a:rPr>
              <a:t>Documentation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Vulcan Roadmap</a:t>
            </a: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 full functionality beta, Firebird 2.0 compatibl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n initial release, Firebird 2.0 compatible, with little new functionality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 follow on release to exploit new internal architectur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Likely Vulcan Futures</a:t>
            </a: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New record encoding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Internal switch to UTF-8 from multiple character sets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Elimination of physical field lengths and, maybe, logical field lengths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New low level API and wire protocol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dditional high level, object oriented API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Summary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Vulcan</a:t>
            </a: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 has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MP &amp; 64 bit support 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Internal SQL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olid architectur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Vulcan will have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All V2.0 Features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Much more...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Times New Roman"/>
              </a:rPr>
              <a:t>Vulcan – Sponsor’s Requirements</a:t>
            </a: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  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64 Bit (Solaris UltraSparc)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MP Friendly 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At least 3X performance on 4 processor system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Single thread performance with 20% of </a:t>
            </a:r>
            <a:br>
              <a:rPr sz="2800"/>
            </a:b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Firebird 1.5</a:t>
            </a:r>
            <a:endParaRPr b="0" lang="en-US" sz="28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b11"/>
                </a:solidFill>
                <a:latin typeface="AvantGarde"/>
              </a:rPr>
              <a:t>Questions?</a:t>
            </a:r>
            <a:endParaRPr b="0" lang="en-US" sz="4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Vulcan – My Requirement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trict compatibility with Firebird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32 and 64 Bit (AMD64 Linux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Unified Engine (combine classic, Superserver, and embedded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Establish Provider Architectur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Move SQL into the engine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  <a:ea typeface="Times New Roman"/>
              </a:rPr>
              <a:t> 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</a:rPr>
              <a:t>My Requirement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Fine granularity threading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Per-database configuration system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tart transition to portable object oriented technology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ransparent Gateway to legacy Firebird, Interbas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Vulcan – Results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ingle thread performance exceeds Firebird 1.5 and 2.0 pre-alpha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ingle process, multi-thread performance &gt; 3.5X on 4 processor system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ode base compiles on: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Visual Studio Version 7 for Win32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32 bit IA Linux from Red Hat 7.2 to SuSE 9.2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64 bit AMD64 Linux (SuSE 9.2)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64 bit Solaris with Forte Compiler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  <a:ea typeface="Times New Roman"/>
              </a:rPr>
              <a:t> 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Product Architecture – Original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3" name=""/>
          <p:cNvSpPr/>
          <p:nvPr/>
        </p:nvSpPr>
        <p:spPr>
          <a:xfrm>
            <a:off x="263196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78200" y="3495600"/>
            <a:ext cx="1317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7656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59080" y="342756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9556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2133720"/>
            <a:ext cx="1000080" cy="30456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111400" y="2438280"/>
            <a:ext cx="144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8120" y="3429000"/>
            <a:ext cx="1000080" cy="33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999800" y="3657600"/>
            <a:ext cx="9540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85600" y="3762360"/>
            <a:ext cx="104760" cy="27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403848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rbase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95560" y="303840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89532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95560" y="3038400"/>
            <a:ext cx="98100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2724120"/>
            <a:ext cx="1000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-va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3429000"/>
            <a:ext cx="100008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403848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028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26160" y="3495600"/>
            <a:ext cx="1321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24880" y="3495600"/>
            <a:ext cx="1299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07400" y="342756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4388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781320" y="2438280"/>
            <a:ext cx="180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86440" y="3429000"/>
            <a:ext cx="1000080" cy="33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648120" y="3657600"/>
            <a:ext cx="9540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533560" y="3762360"/>
            <a:ext cx="104760" cy="27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71960" y="403848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rbase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43880" y="303840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54364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43880" y="3038400"/>
            <a:ext cx="98100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724120"/>
            <a:ext cx="1000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-va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3429000"/>
            <a:ext cx="100008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403848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213372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2360" y="3762360"/>
            <a:ext cx="5047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267080" y="1676160"/>
            <a:ext cx="175284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16765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Product Architecture – SQL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91" name=""/>
          <p:cNvSpPr/>
          <p:nvPr/>
        </p:nvSpPr>
        <p:spPr>
          <a:xfrm>
            <a:off x="263196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78200" y="3495600"/>
            <a:ext cx="1317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7656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59080" y="342756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1828800"/>
            <a:ext cx="1000080" cy="30492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111400" y="2438280"/>
            <a:ext cx="144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8120" y="3429000"/>
            <a:ext cx="1000080" cy="33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99800" y="3657600"/>
            <a:ext cx="9540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885600" y="3762360"/>
            <a:ext cx="104760" cy="27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403848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rbase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95560" y="303840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9532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95560" y="3038400"/>
            <a:ext cx="98100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724120"/>
            <a:ext cx="1000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-va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3429000"/>
            <a:ext cx="100008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403848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0280" y="349560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26160" y="3495600"/>
            <a:ext cx="1321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24880" y="3495600"/>
            <a:ext cx="1299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07400" y="342756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4388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781320" y="2438280"/>
            <a:ext cx="180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86440" y="3429000"/>
            <a:ext cx="1000080" cy="33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648120" y="3657600"/>
            <a:ext cx="9540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533560" y="3762360"/>
            <a:ext cx="104760" cy="27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71960" y="403848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rbase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43880" y="303840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43880" y="3038400"/>
            <a:ext cx="98100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2724120"/>
            <a:ext cx="1000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y-va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3429000"/>
            <a:ext cx="100008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403848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213372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62360" y="3762360"/>
            <a:ext cx="5047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267080" y="1676160"/>
            <a:ext cx="175284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16765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2133720"/>
            <a:ext cx="1000080" cy="304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SQ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Product Architecture – Post Borland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2235240"/>
            <a:ext cx="2657520" cy="1781280"/>
            <a:chOff x="457200" y="2235240"/>
            <a:chExt cx="2657520" cy="1781280"/>
          </a:xfrm>
        </p:grpSpPr>
        <p:sp>
          <p:nvSpPr>
            <p:cNvPr id="131" name="Cloud"/>
            <p:cNvSpPr/>
            <p:nvPr/>
          </p:nvSpPr>
          <p:spPr>
            <a:xfrm>
              <a:off x="457200" y="2235240"/>
              <a:ext cx="2657520" cy="17812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lient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Cloud"/>
            <p:cNvSpPr/>
            <p:nvPr/>
          </p:nvSpPr>
          <p:spPr>
            <a:xfrm>
              <a:off x="633600" y="2748960"/>
              <a:ext cx="1085760" cy="505440"/>
            </a:xfrm>
            <a:prstGeom prst="pi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lient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Cloud"/>
            <p:cNvSpPr/>
            <p:nvPr/>
          </p:nvSpPr>
          <p:spPr>
            <a:xfrm>
              <a:off x="1551240" y="3035160"/>
              <a:ext cx="1010160" cy="6760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em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719360" y="1752480"/>
            <a:ext cx="100152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29680" y="4016520"/>
            <a:ext cx="790560" cy="66492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rbas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84400" y="3295800"/>
            <a:ext cx="4133880" cy="2770200"/>
            <a:chOff x="2984400" y="3295800"/>
            <a:chExt cx="4133880" cy="2770200"/>
          </a:xfrm>
        </p:grpSpPr>
        <p:sp>
          <p:nvSpPr>
            <p:cNvPr id="137" name="Cloud"/>
            <p:cNvSpPr/>
            <p:nvPr/>
          </p:nvSpPr>
          <p:spPr>
            <a:xfrm>
              <a:off x="2984400" y="3295800"/>
              <a:ext cx="4133880" cy="2770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Cloud"/>
            <p:cNvSpPr/>
            <p:nvPr/>
          </p:nvSpPr>
          <p:spPr>
            <a:xfrm>
              <a:off x="3560760" y="3691440"/>
              <a:ext cx="1010160" cy="67680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Cloud"/>
            <p:cNvSpPr/>
            <p:nvPr/>
          </p:nvSpPr>
          <p:spPr>
            <a:xfrm>
              <a:off x="3342240" y="4562640"/>
              <a:ext cx="1085760" cy="600120"/>
            </a:xfrm>
            <a:prstGeom prst="pi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ervices AP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Cloud"/>
            <p:cNvSpPr/>
            <p:nvPr/>
          </p:nvSpPr>
          <p:spPr>
            <a:xfrm>
              <a:off x="5575320" y="3962520"/>
              <a:ext cx="1085760" cy="6001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SQ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Cloud"/>
            <p:cNvSpPr/>
            <p:nvPr/>
          </p:nvSpPr>
          <p:spPr>
            <a:xfrm>
              <a:off x="4927320" y="5077080"/>
              <a:ext cx="1085760" cy="60012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ng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Cloud"/>
            <p:cNvSpPr/>
            <p:nvPr/>
          </p:nvSpPr>
          <p:spPr>
            <a:xfrm>
              <a:off x="4489200" y="4295880"/>
              <a:ext cx="1085760" cy="6001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y-val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1981080" y="2057400"/>
            <a:ext cx="17784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58920" y="3505320"/>
            <a:ext cx="40320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62120" y="3962520"/>
            <a:ext cx="131148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73600" y="4295880"/>
            <a:ext cx="17784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051440" y="4295520"/>
            <a:ext cx="16488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29080" y="4016520"/>
            <a:ext cx="49860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372280" y="4295520"/>
            <a:ext cx="38088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371920" y="4295880"/>
            <a:ext cx="64116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51440" y="4896000"/>
            <a:ext cx="1143000" cy="50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94440" y="4681440"/>
            <a:ext cx="17784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752800" y="4368960"/>
            <a:ext cx="260280" cy="79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753160" y="4368600"/>
            <a:ext cx="1828800" cy="10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4b11"/>
                </a:solidFill>
                <a:latin typeface="AvantGarde"/>
                <a:ea typeface="Arial"/>
              </a:rPr>
              <a:t>Product Architecture – Vulcan</a:t>
            </a:r>
            <a:endParaRPr b="0" lang="en-US" sz="36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56" name=""/>
          <p:cNvSpPr/>
          <p:nvPr/>
        </p:nvSpPr>
        <p:spPr>
          <a:xfrm>
            <a:off x="2946240" y="353844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3538440"/>
            <a:ext cx="1317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22800" y="3538440"/>
            <a:ext cx="1299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3427560"/>
            <a:ext cx="75384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9556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2133720"/>
            <a:ext cx="1162080" cy="30456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111400" y="2438280"/>
            <a:ext cx="144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09680" y="3429000"/>
            <a:ext cx="67644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QL Engine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599840" y="4038480"/>
            <a:ext cx="10476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2440" y="437040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rebird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600200" y="3038400"/>
            <a:ext cx="49536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89532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95560" y="3038400"/>
            <a:ext cx="291960" cy="37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2724120"/>
            <a:ext cx="1162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rebird Dis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1880" y="3449520"/>
            <a:ext cx="790560" cy="623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0520" y="436896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532560" y="2438280"/>
            <a:ext cx="144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24680" y="2133720"/>
            <a:ext cx="100008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62360" y="3762360"/>
            <a:ext cx="5047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267080" y="1676160"/>
            <a:ext cx="175284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1676520"/>
            <a:ext cx="5140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00280" y="4038480"/>
            <a:ext cx="95040" cy="331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7640" y="3414600"/>
            <a:ext cx="790560" cy="623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s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12840" y="3033720"/>
            <a:ext cx="1143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65960" y="353844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3538440"/>
            <a:ext cx="13176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42160" y="3538440"/>
            <a:ext cx="1303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24680" y="3427560"/>
            <a:ext cx="75420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15280" y="3038400"/>
            <a:ext cx="166680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29400" y="3429000"/>
            <a:ext cx="6760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QL Engine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019560" y="4038480"/>
            <a:ext cx="10476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72160" y="4370400"/>
            <a:ext cx="790560" cy="665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rebird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019920" y="3038400"/>
            <a:ext cx="49536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15040" y="3038400"/>
            <a:ext cx="1217520" cy="38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15280" y="3038400"/>
            <a:ext cx="291960" cy="37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724120"/>
            <a:ext cx="1162080" cy="314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rebird Dis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81600" y="3449520"/>
            <a:ext cx="790560" cy="623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ateway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10240" y="4368960"/>
            <a:ext cx="790560" cy="66672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182080" y="3762360"/>
            <a:ext cx="5047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219280" y="4038480"/>
            <a:ext cx="95400" cy="331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07000" y="3414600"/>
            <a:ext cx="790560" cy="623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s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32560" y="3033720"/>
            <a:ext cx="1143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27:53Z</dcterms:created>
  <dc:creator>Ann W. Harrison</dc:creator>
  <dc:description/>
  <dc:language>en-US</dc:language>
  <cp:lastModifiedBy>Ann Harrison</cp:lastModifiedBy>
  <dcterms:modified xsi:type="dcterms:W3CDTF">2005-11-14T07:42:52Z</dcterms:modified>
  <cp:revision>33</cp:revision>
  <dc:subject/>
  <dc:title>The Future of Firebird/InterBase</dc:title>
</cp:coreProperties>
</file>