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1A9-ABE1-4D7E-8969-6FF6635E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D28-3CA7-48A3-8C49-25334DDD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0FE-D1D9-4C58-9225-3885BE0F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D81-3D8E-44FA-94A3-6752E59C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938-1845-4D84-86C7-3EE0A894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DA2-886C-4601-BBA9-6E13C7A9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26C-7AE8-458B-9D58-D8812CE3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68B-8663-407A-BB6B-758D69A2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FD8-77CB-4683-BFB7-612540D1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A51-4F3F-4505-A417-7417CB9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741-92B4-4F2A-A8F7-EB4D0920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80F-829E-4681-A0FC-70D3277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b11"/>
                </a:solidFill>
                <a:latin typeface="AvantGarde"/>
              </a:rPr>
              <a:t>Click to edit the title text format</a:t>
            </a: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Click to edit the outline text format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1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econd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2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Third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3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Four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4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Fif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5" marL="277560" indent="-277560">
              <a:spcBef>
                <a:spcPts val="799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ix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6" marL="277560" indent="-277560">
              <a:spcBef>
                <a:spcPts val="799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even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6CC0-E66D-46A8-BF0D-2B22A512B58D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1722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6308-1554-4AA8-AAFA-B2FF3E74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4b11"/>
                </a:solidFill>
                <a:latin typeface="AvantGarde"/>
              </a:rPr>
              <a:t>Vulcan</a:t>
            </a:r>
            <a:endParaRPr b="0" lang="en-US" sz="40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Jim Starkey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tfrastru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jas@netfrastructure.com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Providers – </a:t>
            </a:r>
            <a:br>
              <a:rPr sz="3600"/>
            </a:b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Abstract Data Manager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provider a loadable library that implements the provider API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xamples of provider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current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engine from the prior rele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remote interface for server acces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gateway to pre-Vulcan Firebir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gateway to current and legacy Inter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rovider selection is automatic under configuration contro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Firebird Engine Build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uper server – single process, multi-threaded, single page cach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Classic – multiple processes, each with separate page cach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mbedded – single process, no sharing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Engine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er-database configuration determines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al engine, shared server, or gateway to legacy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ation of serv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Whether local engine shares database file (embedded or classic mode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Whether server shares database file (classic or Superserver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ingle client library for all option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roviders (engines, gateways, remote interfaces) are loaded on demand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Security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ach database ca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Use named security database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Function as own security database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Have security disabled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ew DDL statements to create, alter, and drop us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ew security API to propagate user data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urity plugin architecture for extensible security contro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Major Internal Change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-established separation of Y-valve and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QL moved from Y-valve to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rchitectural support for compiled statement cach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ransformation internal record streams to type hierarchy is underwa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Major Internal Change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Object encapsulation of internal mechanisms include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base page cache manag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k Manag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base Manag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QL Pars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ompiled reques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urity Manag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What’s Missing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14b11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Arial"/>
              </a:rPr>
              <a:t>An installation proced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609480" indent="-609480">
              <a:spcBef>
                <a:spcPts val="700"/>
              </a:spcBef>
              <a:buClr>
                <a:srgbClr val="014b11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Arial"/>
              </a:rPr>
              <a:t>Documentation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Roadmap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full functionality beta, Firebird 2.0 compatibl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n initial release, Firebird 2.0 compatible, with little new functionality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follow on release to exploit new internal archite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Likely Vulcan Futures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w record encoding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Internal switch to UTF-8 from multiple character set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limination of physical field lengths and, maybe, logical field length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w low level API and wire protoco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dditional high level, object oriented API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Summary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Vulcan</a:t>
            </a: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 ha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MP &amp; 64 bit support 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Internal SQ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olid archite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Vulcan will hav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ll V2.0 Feature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Much more...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– Sponsor’s Requirements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64 Bit (Solaris UltraSparc)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MP Friendly 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t least 3X performance on 4 processor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ingle thread performance with 20% of </a:t>
            </a:r>
            <a:br>
              <a:rPr sz="2800"/>
            </a:b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Firebird 1.5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b11"/>
                </a:solidFill>
                <a:latin typeface="AvantGarde"/>
              </a:rPr>
              <a:t>Questions?</a:t>
            </a: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My Requiremen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trict compatibility with Firebir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32 and 64 Bit (AMD64 Linux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Unified Engine (combine classic, Superserver, and embedded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stablish Provider Architectur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Move SQL into the engine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My Requiremen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ne granularity threading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er-database configuration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tart transition to portable object oriented technolog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ransparent Gateway to legacy Firebird, Inter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Resul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ingle thread performance exceeds Firebird 1.5 and 2.0 pre-alpha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ingle process, multi-thread performance &gt; 3.5X on 4 processor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ode base compiles on: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Visual Studio Version 7 for Win32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32 bit IA Linux from Red Hat 7.2 to SuSE 9.2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64 bit AMD64 Linux (SuSE 9.2)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64 bit Solaris with Forte Compiler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Original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3" name=""/>
          <p:cNvSpPr/>
          <p:nvPr/>
        </p:nvSpPr>
        <p:spPr>
          <a:xfrm>
            <a:off x="26319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78200" y="349560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765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5908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133720"/>
            <a:ext cx="1000080" cy="3045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812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9980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8560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9556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9556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028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26160" y="3495600"/>
            <a:ext cx="1321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24880" y="349560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0740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781320" y="2438280"/>
            <a:ext cx="180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8644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4812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53356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7196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436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4388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16765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SQL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1" name=""/>
          <p:cNvSpPr/>
          <p:nvPr/>
        </p:nvSpPr>
        <p:spPr>
          <a:xfrm>
            <a:off x="26319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78200" y="349560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65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5908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828800"/>
            <a:ext cx="100008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812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9980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88560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028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6160" y="3495600"/>
            <a:ext cx="1321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24880" y="349560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740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438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781320" y="2438280"/>
            <a:ext cx="180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8644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4812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53356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7196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388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388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16765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133720"/>
            <a:ext cx="10000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Q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Post Borland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2235240"/>
            <a:ext cx="2657520" cy="1781280"/>
            <a:chOff x="457200" y="2235240"/>
            <a:chExt cx="2657520" cy="1781280"/>
          </a:xfrm>
        </p:grpSpPr>
        <p:sp>
          <p:nvSpPr>
            <p:cNvPr id="131" name="Cloud"/>
            <p:cNvSpPr/>
            <p:nvPr/>
          </p:nvSpPr>
          <p:spPr>
            <a:xfrm>
              <a:off x="457200" y="2235240"/>
              <a:ext cx="2657520" cy="1781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lien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Cloud"/>
            <p:cNvSpPr/>
            <p:nvPr/>
          </p:nvSpPr>
          <p:spPr>
            <a:xfrm>
              <a:off x="633600" y="2748960"/>
              <a:ext cx="1085760" cy="505440"/>
            </a:xfrm>
            <a:prstGeom prst="pi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lient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Cloud"/>
            <p:cNvSpPr/>
            <p:nvPr/>
          </p:nvSpPr>
          <p:spPr>
            <a:xfrm>
              <a:off x="1551240" y="3035160"/>
              <a:ext cx="1010160" cy="6760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19360" y="1752480"/>
            <a:ext cx="10015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29680" y="4016520"/>
            <a:ext cx="790560" cy="664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84400" y="3295800"/>
            <a:ext cx="4133880" cy="2770200"/>
            <a:chOff x="2984400" y="3295800"/>
            <a:chExt cx="4133880" cy="2770200"/>
          </a:xfrm>
        </p:grpSpPr>
        <p:sp>
          <p:nvSpPr>
            <p:cNvPr id="137" name="Cloud"/>
            <p:cNvSpPr/>
            <p:nvPr/>
          </p:nvSpPr>
          <p:spPr>
            <a:xfrm>
              <a:off x="2984400" y="3295800"/>
              <a:ext cx="4133880" cy="2770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Cloud"/>
            <p:cNvSpPr/>
            <p:nvPr/>
          </p:nvSpPr>
          <p:spPr>
            <a:xfrm>
              <a:off x="3560760" y="3691440"/>
              <a:ext cx="1010160" cy="67680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Cloud"/>
            <p:cNvSpPr/>
            <p:nvPr/>
          </p:nvSpPr>
          <p:spPr>
            <a:xfrm>
              <a:off x="3342240" y="4562640"/>
              <a:ext cx="1085760" cy="6001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rvices AP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Cloud"/>
            <p:cNvSpPr/>
            <p:nvPr/>
          </p:nvSpPr>
          <p:spPr>
            <a:xfrm>
              <a:off x="5575320" y="3962520"/>
              <a:ext cx="1085760" cy="6001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SQ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Cloud"/>
            <p:cNvSpPr/>
            <p:nvPr/>
          </p:nvSpPr>
          <p:spPr>
            <a:xfrm>
              <a:off x="4927320" y="5077080"/>
              <a:ext cx="1085760" cy="6001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Cloud"/>
            <p:cNvSpPr/>
            <p:nvPr/>
          </p:nvSpPr>
          <p:spPr>
            <a:xfrm>
              <a:off x="4489200" y="4295880"/>
              <a:ext cx="1085760" cy="6001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y-val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1981080" y="2057400"/>
            <a:ext cx="17784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58920" y="3505320"/>
            <a:ext cx="40320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62120" y="3962520"/>
            <a:ext cx="131148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73600" y="4295880"/>
            <a:ext cx="17784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051440" y="4295520"/>
            <a:ext cx="16488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9080" y="4016520"/>
            <a:ext cx="49860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372280" y="4295520"/>
            <a:ext cx="38088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71920" y="4295880"/>
            <a:ext cx="64116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51440" y="4896000"/>
            <a:ext cx="1143000" cy="50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4440" y="4681440"/>
            <a:ext cx="17784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752800" y="4368960"/>
            <a:ext cx="260280" cy="79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53160" y="4368600"/>
            <a:ext cx="182880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Vulcan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56" name=""/>
          <p:cNvSpPr/>
          <p:nvPr/>
        </p:nvSpPr>
        <p:spPr>
          <a:xfrm>
            <a:off x="294624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53844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22800" y="353844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3427560"/>
            <a:ext cx="75384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2133720"/>
            <a:ext cx="1162080" cy="3045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09680" y="3429000"/>
            <a:ext cx="67644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QL Engine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99840" y="4038480"/>
            <a:ext cx="10476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437040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600200" y="3038400"/>
            <a:ext cx="4953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95560" y="3038400"/>
            <a:ext cx="291960" cy="37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724120"/>
            <a:ext cx="1162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is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880" y="3449520"/>
            <a:ext cx="790560" cy="623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436896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53256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2468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676520"/>
            <a:ext cx="5140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00280" y="4038480"/>
            <a:ext cx="95040" cy="331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7640" y="3414600"/>
            <a:ext cx="790560" cy="6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s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12840" y="3033720"/>
            <a:ext cx="1143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6596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353844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216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24680" y="3427560"/>
            <a:ext cx="75420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52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9400" y="3429000"/>
            <a:ext cx="6760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QL Engine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019560" y="4038480"/>
            <a:ext cx="10476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72160" y="437040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19920" y="3038400"/>
            <a:ext cx="4953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150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5280" y="3038400"/>
            <a:ext cx="291960" cy="37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724120"/>
            <a:ext cx="1162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is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81600" y="3449520"/>
            <a:ext cx="790560" cy="623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10240" y="436896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8208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219280" y="4038480"/>
            <a:ext cx="95400" cy="331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07000" y="3414600"/>
            <a:ext cx="790560" cy="6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s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32560" y="3033720"/>
            <a:ext cx="1143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27:53Z</dcterms:created>
  <dc:creator>Ann W. Harrison</dc:creator>
  <dc:description/>
  <dc:language>en-US</dc:language>
  <cp:lastModifiedBy>Ann Harrison</cp:lastModifiedBy>
  <dcterms:modified xsi:type="dcterms:W3CDTF">2005-11-14T07:42:52Z</dcterms:modified>
  <cp:revision>33</cp:revision>
  <dc:subject/>
  <dc:title>The Future of Firebird/InterBase</dc:title>
</cp:coreProperties>
</file>