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3600" y="1592280"/>
            <a:ext cx="919008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3600" y="4293000"/>
            <a:ext cx="919008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3600" y="1592280"/>
            <a:ext cx="448452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72760" y="1592280"/>
            <a:ext cx="448452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3600" y="4293000"/>
            <a:ext cx="448452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72760" y="4293000"/>
            <a:ext cx="448452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3600" y="1592280"/>
            <a:ext cx="295884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70760" y="1592280"/>
            <a:ext cx="295884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77920" y="1592280"/>
            <a:ext cx="295884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3600" y="4293000"/>
            <a:ext cx="295884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70760" y="4293000"/>
            <a:ext cx="295884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77920" y="4293000"/>
            <a:ext cx="295884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3600" y="1592280"/>
            <a:ext cx="919008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3600" y="1592280"/>
            <a:ext cx="919008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3600" y="1592280"/>
            <a:ext cx="448452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72760" y="1592280"/>
            <a:ext cx="448452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Cools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2680" y="657360"/>
            <a:ext cx="9277200" cy="367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3600" y="1592280"/>
            <a:ext cx="448452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72760" y="1592280"/>
            <a:ext cx="448452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3600" y="4293000"/>
            <a:ext cx="448452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3600" y="1592280"/>
            <a:ext cx="448452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72760" y="1592280"/>
            <a:ext cx="448452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72760" y="4293000"/>
            <a:ext cx="448452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3600" y="1592280"/>
            <a:ext cx="448452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2760" y="1592280"/>
            <a:ext cx="448452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3600" y="4293000"/>
            <a:ext cx="919008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0280" y="61920"/>
            <a:ext cx="6404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ssion: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INTRN-P204-R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Firebird Quality Assurance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peaker: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Pavel Císa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837640" y="7248600"/>
            <a:ext cx="114624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8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Chancery L"/>
              </a:rPr>
              <a:t>Slide </a:t>
            </a:r>
            <a:fld id="{9D5F8674-426F-40A7-A2C1-2ACD53CDB33D}" type="slidenum">
              <a:rPr b="0" lang="en-GB" sz="2000" spc="-1" strike="noStrike">
                <a:solidFill>
                  <a:srgbClr val="ffff00"/>
                </a:solidFill>
                <a:latin typeface="Chancery 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72320" y="7020000"/>
            <a:ext cx="231948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imes New Roman"/>
              </a:rPr>
              <a:t>IBPhoen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olsvill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63600" y="1592280"/>
            <a:ext cx="919008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Lib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Lib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Lib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  <a:p>
            <a:pPr lvl="3" marL="1727280" indent="-21600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Lib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  <a:p>
            <a:pPr lvl="4" marL="2158920" indent="-215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Lib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  <a:p>
            <a:pPr lvl="5" marL="2158920" indent="-215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Lib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  <a:p>
            <a:pPr lvl="6" marL="2158920" indent="-215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9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Lib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codesourcery.com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irebird Quality Assurance</a:t>
            </a:r>
            <a:endParaRPr b="1" lang="en-US" sz="48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4267080"/>
            <a:ext cx="701064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avel Císa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BPhoen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600" spc="-1" strike="noStrike">
                <a:solidFill>
                  <a:srgbClr val="000080"/>
                </a:solidFill>
                <a:latin typeface="Comic Sans MS"/>
              </a:rPr>
              <a:t>TCS test harness</a:t>
            </a:r>
            <a:endParaRPr b="1" lang="en-US" sz="36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3240" y="1592280"/>
            <a:ext cx="938988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1000"/>
              </a:lnSpc>
              <a:spcAft>
                <a:spcPts val="1426"/>
              </a:spcAft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Released by Borland with ~390 tests </a:t>
            </a:r>
            <a:endParaRPr b="0" lang="en-US" sz="2000" spc="-1" strike="noStrike">
              <a:solidFill>
                <a:srgbClr val="000000"/>
              </a:solidFill>
              <a:latin typeface="AdLib BT"/>
            </a:endParaRPr>
          </a:p>
          <a:p>
            <a:pPr marL="427320" indent="-320400">
              <a:lnSpc>
                <a:spcPct val="91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Tests are written in mixture of </a:t>
            </a:r>
            <a:endParaRPr b="0" lang="en-US" sz="2000" spc="-1" strike="noStrike">
              <a:solidFill>
                <a:srgbClr val="000000"/>
              </a:solidFill>
              <a:latin typeface="AdLib BT"/>
            </a:endParaRPr>
          </a:p>
          <a:p>
            <a:pPr lvl="1" marL="855000" indent="-284400">
              <a:lnSpc>
                <a:spcPct val="91000"/>
              </a:lnSpc>
              <a:spcAft>
                <a:spcPts val="1137"/>
              </a:spcAft>
              <a:buSzPct val="100000"/>
              <a:buBlip>
                <a:blip r:embed="rId3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shell script</a:t>
            </a:r>
            <a:endParaRPr b="0" lang="en-US" sz="1800" spc="-1" strike="noStrike">
              <a:solidFill>
                <a:srgbClr val="000000"/>
              </a:solidFill>
              <a:latin typeface="AdLib BT"/>
            </a:endParaRPr>
          </a:p>
          <a:p>
            <a:pPr lvl="1" marL="855000" indent="-284400">
              <a:lnSpc>
                <a:spcPct val="91000"/>
              </a:lnSpc>
              <a:spcAft>
                <a:spcPts val="1137"/>
              </a:spcAft>
              <a:buSzPct val="100000"/>
              <a:buBlip>
                <a:blip r:embed="rId4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arcane TCS commands</a:t>
            </a:r>
            <a:endParaRPr b="0" lang="en-US" sz="1800" spc="-1" strike="noStrike">
              <a:solidFill>
                <a:srgbClr val="000000"/>
              </a:solidFill>
              <a:latin typeface="AdLib BT"/>
            </a:endParaRPr>
          </a:p>
          <a:p>
            <a:pPr lvl="1" marL="855000" indent="-284400">
              <a:lnSpc>
                <a:spcPct val="91000"/>
              </a:lnSpc>
              <a:spcAft>
                <a:spcPts val="1137"/>
              </a:spcAft>
              <a:buSzPct val="100000"/>
              <a:buBlip>
                <a:blip r:embed="rId5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environment variables (both OS and TCS)</a:t>
            </a:r>
            <a:endParaRPr b="0" lang="en-US" sz="1800" spc="-1" strike="noStrike">
              <a:solidFill>
                <a:srgbClr val="000000"/>
              </a:solidFill>
              <a:latin typeface="AdLib BT"/>
            </a:endParaRPr>
          </a:p>
          <a:p>
            <a:pPr lvl="1" marL="855000" indent="-284400">
              <a:lnSpc>
                <a:spcPct val="91000"/>
              </a:lnSpc>
              <a:spcAft>
                <a:spcPts val="1137"/>
              </a:spcAft>
              <a:buSzPct val="100000"/>
              <a:buBlip>
                <a:blip r:embed="rId6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/C++</a:t>
            </a:r>
            <a:endParaRPr b="0" lang="en-US" sz="1800" spc="-1" strike="noStrike">
              <a:solidFill>
                <a:srgbClr val="000000"/>
              </a:solidFill>
              <a:latin typeface="AdLib BT"/>
            </a:endParaRPr>
          </a:p>
          <a:p>
            <a:pPr lvl="1" marL="855000" indent="-284400">
              <a:lnSpc>
                <a:spcPct val="91000"/>
              </a:lnSpc>
              <a:spcAft>
                <a:spcPts val="1137"/>
              </a:spcAft>
              <a:buSzPct val="100000"/>
              <a:buBlip>
                <a:blip r:embed="rId7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ESQL </a:t>
            </a:r>
            <a:endParaRPr b="0" lang="en-US" sz="1800" spc="-1" strike="noStrike">
              <a:solidFill>
                <a:srgbClr val="000000"/>
              </a:solidFill>
              <a:latin typeface="AdLib BT"/>
            </a:endParaRPr>
          </a:p>
          <a:p>
            <a:pPr marL="427320" indent="-320400">
              <a:lnSpc>
                <a:spcPct val="91000"/>
              </a:lnSpc>
              <a:spcAft>
                <a:spcPts val="1426"/>
              </a:spcAft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Tests use various external tools (all are standard, free or part of TCS suite)</a:t>
            </a:r>
            <a:endParaRPr b="0" lang="en-US" sz="2000" spc="-1" strike="noStrike">
              <a:solidFill>
                <a:srgbClr val="000000"/>
              </a:solidFill>
              <a:latin typeface="AdLib BT"/>
            </a:endParaRPr>
          </a:p>
          <a:p>
            <a:pPr marL="427320" indent="-320400">
              <a:lnSpc>
                <a:spcPct val="91000"/>
              </a:lnSpc>
              <a:spcAft>
                <a:spcPts val="1426"/>
              </a:spcAft>
              <a:buSzPct val="100000"/>
              <a:buBlip>
                <a:blip r:embed="rId9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Test-run evaluation is done by comparison of real and expected output</a:t>
            </a:r>
            <a:endParaRPr b="0" lang="en-US" sz="2000" spc="-1" strike="noStrike">
              <a:solidFill>
                <a:srgbClr val="000000"/>
              </a:solidFill>
              <a:latin typeface="AdLib BT"/>
            </a:endParaRPr>
          </a:p>
          <a:p>
            <a:pPr marL="427320" indent="-320400">
              <a:lnSpc>
                <a:spcPct val="91000"/>
              </a:lnSpc>
              <a:spcAft>
                <a:spcPts val="1426"/>
              </a:spcAft>
              <a:buSzPct val="100000"/>
              <a:buBlip>
                <a:blip r:embed="rId10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Hard to operate, writing new tests require almost the same skills (or more in certain areas) for QA people as for core developers</a:t>
            </a:r>
            <a:endParaRPr b="0" lang="en-US" sz="2000" spc="-1" strike="noStrike">
              <a:solidFill>
                <a:srgbClr val="000000"/>
              </a:solidFill>
              <a:latin typeface="AdLib BT"/>
            </a:endParaRPr>
          </a:p>
          <a:p>
            <a:pPr marL="427320" indent="-320400">
              <a:lnSpc>
                <a:spcPct val="91000"/>
              </a:lnSpc>
              <a:spcAft>
                <a:spcPts val="1426"/>
              </a:spcAft>
              <a:buSzPct val="100000"/>
              <a:buBlip>
                <a:blip r:embed="rId1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ill used (see fbtcs CVS module), but considered as deprecated</a:t>
            </a:r>
            <a:endParaRPr b="0" lang="en-US" sz="20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Comic Sans MS"/>
              </a:rPr>
              <a:t>QMTest test harness</a:t>
            </a:r>
            <a:endParaRPr b="1" lang="en-US" sz="40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3600" y="1592280"/>
            <a:ext cx="919008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1000"/>
              </a:lnSpc>
              <a:spcAft>
                <a:spcPts val="1426"/>
              </a:spcAft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n source, written in Pyth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www.codesourcery.co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27320" indent="-320400">
              <a:lnSpc>
                <a:spcPct val="91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exible and extensible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27320" indent="-320400">
              <a:lnSpc>
                <a:spcPct val="91000"/>
              </a:lnSpc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sic functionality tests for engine in developm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we have ~230 tests now)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27320" indent="-320400">
              <a:lnSpc>
                <a:spcPct val="91000"/>
              </a:lnSpc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sts for tracked bugs (now only stubs)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27320" indent="-320400">
              <a:lnSpc>
                <a:spcPct val="91000"/>
              </a:lnSpc>
              <a:spcAft>
                <a:spcPts val="1426"/>
              </a:spcAft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re tests in the pipeline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27320" indent="-320400">
              <a:lnSpc>
                <a:spcPct val="91000"/>
              </a:lnSpc>
              <a:spcAft>
                <a:spcPts val="1426"/>
              </a:spcAft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port for International characters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27320" indent="-320400">
              <a:lnSpc>
                <a:spcPct val="91000"/>
              </a:lnSpc>
              <a:spcAft>
                <a:spcPts val="1426"/>
              </a:spcAft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ild-in support for writing complex tests in Python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27320" indent="-320400">
              <a:lnSpc>
                <a:spcPct val="91000"/>
              </a:lnSpc>
              <a:spcAft>
                <a:spcPts val="1426"/>
              </a:spcAft>
              <a:buSzPct val="100000"/>
              <a:buBlip>
                <a:blip r:embed="rId9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st versioning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52320"/>
            <a:ext cx="85341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QMTest in action</a:t>
            </a:r>
            <a:endParaRPr b="1" lang="en-US" sz="6600" spc="-1" strike="noStrike">
              <a:solidFill>
                <a:srgbClr val="ffffff"/>
              </a:solidFill>
              <a:latin typeface="Coolsvil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Comic Sans MS"/>
              </a:rPr>
              <a:t>Load and performance tests</a:t>
            </a:r>
            <a:endParaRPr b="1" lang="en-US" sz="36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3600" y="1592280"/>
            <a:ext cx="919008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have AS3AP (ANSI SQL Standard Scalable and Portable Benchmark) adapted for Firebird with use of our JDBC and .NET drivers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rently it’s not used regularly in our QA process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Comic Sans MS"/>
              </a:rPr>
              <a:t>Pre-release testing and Field tests</a:t>
            </a:r>
            <a:endParaRPr b="1" lang="en-US" sz="36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3600" y="1592280"/>
            <a:ext cx="919008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gine packages intended for public release are internally checked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69000"/>
              <a:buFont typeface="Comic Sans M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y automated tests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69000"/>
              <a:buFont typeface="Comic Sans M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 installation and other issues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eld testing (alpha/beta/RC releases)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69000"/>
              <a:buFont typeface="Comic Sans M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rect feedback from registered field-testers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69000"/>
              <a:buFont typeface="Comic Sans M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ild” feedback in firebird-devel list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69000"/>
              <a:buFont typeface="Comic Sans M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ug tracker at SF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eld test management is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still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eak</a:t>
            </a: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Comic Sans MS"/>
              </a:rPr>
              <a:t>Issue trackers (at SourceForge)</a:t>
            </a:r>
            <a:endParaRPr b="1" lang="en-US" sz="36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3600" y="1592280"/>
            <a:ext cx="919008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eature requests</a:t>
            </a:r>
            <a:endParaRPr b="0" lang="en-US" sz="24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ugs</a:t>
            </a:r>
            <a:endParaRPr b="0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69000"/>
              <a:buFont typeface="Comic Sans M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rmerly used for everything, now it’s only for issues with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stable releases</a:t>
            </a:r>
            <a:endParaRPr b="0" lang="en-US" sz="24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eld-test</a:t>
            </a:r>
            <a:endParaRPr b="0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69000"/>
              <a:buFont typeface="Comic Sans M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r issues with any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public test release</a:t>
            </a:r>
            <a:endParaRPr b="0" lang="en-US" sz="24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A</a:t>
            </a:r>
            <a:endParaRPr b="0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69000"/>
              <a:buFont typeface="Comic Sans M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t used yet</a:t>
            </a:r>
            <a:endParaRPr b="0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69000"/>
              <a:buFont typeface="Comic Sans M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tended for QA management</a:t>
            </a:r>
            <a:endParaRPr b="0" lang="en-US" sz="24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Comic Sans MS"/>
              </a:rPr>
              <a:t>What we want to do</a:t>
            </a:r>
            <a:endParaRPr b="1" lang="en-US" sz="36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92280"/>
            <a:ext cx="952488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ganize an independent QA team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91000"/>
              </a:lnSpc>
              <a:spcAft>
                <a:spcPts val="1137"/>
              </a:spcAft>
              <a:buClr>
                <a:srgbClr val="000000"/>
              </a:buClr>
              <a:buSzPct val="69000"/>
              <a:buFont typeface="Comic Sans M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ternal task force for QA management and development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91000"/>
              </a:lnSpc>
              <a:spcAft>
                <a:spcPts val="1137"/>
              </a:spcAft>
              <a:buClr>
                <a:srgbClr val="000000"/>
              </a:buClr>
              <a:buSzPct val="69000"/>
              <a:buFont typeface="Comic Sans M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ternal fellow-workers for managed field tests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reate a “QA lab”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IBP has one for Vulcan)</a:t>
            </a: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91000"/>
              </a:lnSpc>
              <a:spcAft>
                <a:spcPts val="1137"/>
              </a:spcAft>
              <a:buClr>
                <a:srgbClr val="000000"/>
              </a:buClr>
              <a:buSzPct val="69000"/>
              <a:buFont typeface="Comic Sans M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ular automated builds &amp; testing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91000"/>
              </a:lnSpc>
              <a:spcAft>
                <a:spcPts val="1137"/>
              </a:spcAft>
              <a:buClr>
                <a:srgbClr val="000000"/>
              </a:buClr>
              <a:buSzPct val="69000"/>
              <a:buFont typeface="Comic Sans M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re extensive pre-release testing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uild more automated tests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mprove control over the whole development and release cycle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Comic Sans MS"/>
              </a:rPr>
              <a:t>Controlling the development cycle</a:t>
            </a:r>
            <a:endParaRPr b="1" lang="en-US" sz="36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3600" y="1592280"/>
            <a:ext cx="919008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414360" indent="-3106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stablish right-sized and organized issue tracking system (we decided to use JIRA, but it’s not installed yet)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14360" indent="-3106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uild a QA lab and QA team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14360" indent="-3106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uild a field-test squad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14360" indent="-3106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stablish QA routine across the project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14360" indent="-3106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rict release management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14360" indent="-3106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etter development planning and release schedule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14360" indent="-3106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ut developers under QA whip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63600" y="1592280"/>
            <a:ext cx="919008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  <a:p>
            <a:pPr marL="431640"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  <a:p>
            <a:pPr marL="431640"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  <a:p>
            <a:pPr marL="431640"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Firebird Foundation should play more active role in Firebird QA</a:t>
            </a:r>
            <a:endParaRPr b="0" lang="en-US" sz="36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Comic Sans MS"/>
              </a:rPr>
              <a:t>How you can help</a:t>
            </a:r>
            <a:endParaRPr b="1" lang="en-US" sz="40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3600" y="1592280"/>
            <a:ext cx="919008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Join the Firebird Foundation (work, money, equipment)</a:t>
            </a:r>
            <a:endParaRPr b="0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69000"/>
              <a:buFont typeface="Comic Sans M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re is enough work in QA for several full-time workers</a:t>
            </a:r>
            <a:endParaRPr b="0" lang="en-US" sz="20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69000"/>
              <a:buFont typeface="Comic Sans M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uilding the QA lab and other QA facilities (trackers etc.)</a:t>
            </a:r>
            <a:endParaRPr b="0" lang="en-US" sz="20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Join the QA team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re are many different QA tasks with various demands that you can fill</a:t>
            </a:r>
            <a:endParaRPr b="0" lang="en-US" sz="20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Join the Field-test squad</a:t>
            </a:r>
            <a:endParaRPr b="0" lang="en-US" sz="24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sign or write new tests</a:t>
            </a:r>
            <a:endParaRPr b="0" lang="en-US" sz="24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rite good bug reports</a:t>
            </a:r>
            <a:endParaRPr b="0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69000"/>
              <a:buFont typeface="Comic Sans M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vide all relevant information</a:t>
            </a:r>
            <a:endParaRPr b="0" lang="en-US" sz="20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69000"/>
              <a:buFont typeface="Comic Sans M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reate a simple test case</a:t>
            </a:r>
            <a:endParaRPr b="0" lang="en-US" sz="20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3240" y="587160"/>
            <a:ext cx="92790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Introduction</a:t>
            </a:r>
            <a:endParaRPr b="1" lang="en-US" sz="36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63600" y="1591920"/>
            <a:ext cx="9191520" cy="51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2" marL="88884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Time sequenc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88884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45000"/>
              <a:buFont typeface="Comic Sans MS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Introduction to Q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884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45000"/>
              <a:buFont typeface="Comic Sans MS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Firebird QA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884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45000"/>
              <a:buFont typeface="Comic Sans MS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Planned improv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884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45000"/>
              <a:buFont typeface="Comic Sans MS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How to participate in Firebird Q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884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45000"/>
              <a:buFont typeface="Comic Sans MS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63600" y="1592280"/>
            <a:ext cx="919008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dLib BT"/>
            </a:endParaRPr>
          </a:p>
          <a:p>
            <a:pPr marL="431640"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dLib BT"/>
            </a:endParaRPr>
          </a:p>
          <a:p>
            <a:pPr marL="431640"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Questions ? Comments ?</a:t>
            </a:r>
            <a:endParaRPr b="0" lang="en-US" sz="48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63600" y="990360"/>
            <a:ext cx="9190080" cy="57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1000"/>
              </a:lnSpc>
              <a:spcBef>
                <a:spcPts val="225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mic Sans MS"/>
              </a:rPr>
              <a:t>I thank you for your attention.</a:t>
            </a:r>
            <a:endParaRPr b="0" lang="en-US" sz="3600" spc="-1" strike="noStrike">
              <a:solidFill>
                <a:srgbClr val="000000"/>
              </a:solidFill>
              <a:latin typeface="AdLib BT"/>
            </a:endParaRPr>
          </a:p>
          <a:p>
            <a:pPr marL="431640" indent="0" algn="ctr">
              <a:lnSpc>
                <a:spcPct val="91000"/>
              </a:lnSpc>
              <a:spcBef>
                <a:spcPts val="100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dLib BT"/>
            </a:endParaRPr>
          </a:p>
          <a:p>
            <a:pPr marL="431640" indent="0" algn="ctr">
              <a:lnSpc>
                <a:spcPct val="91000"/>
              </a:lnSpc>
              <a:spcBef>
                <a:spcPts val="3376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5400" spc="-1" strike="noStrike">
                <a:solidFill>
                  <a:srgbClr val="000000"/>
                </a:solidFill>
                <a:latin typeface="Comic Sans MS"/>
              </a:rPr>
              <a:t>The end</a:t>
            </a:r>
            <a:endParaRPr b="0" lang="en-US" sz="5400" spc="-1" strike="noStrike">
              <a:solidFill>
                <a:srgbClr val="000000"/>
              </a:solidFill>
              <a:latin typeface="AdLib BT"/>
            </a:endParaRPr>
          </a:p>
          <a:p>
            <a:pPr marL="431640" indent="0" algn="ctr">
              <a:lnSpc>
                <a:spcPct val="91000"/>
              </a:lnSpc>
              <a:spcBef>
                <a:spcPts val="1749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TRN-P204-R</a:t>
            </a:r>
            <a:r>
              <a:rPr b="1" lang="de-DE" sz="28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Firebird QA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0" algn="ctr">
              <a:lnSpc>
                <a:spcPct val="91000"/>
              </a:lnSpc>
              <a:spcBef>
                <a:spcPts val="624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dLib BT"/>
            </a:endParaRPr>
          </a:p>
          <a:p>
            <a:pPr marL="431640" indent="0" algn="ctr">
              <a:lnSpc>
                <a:spcPct val="91000"/>
              </a:lnSpc>
              <a:spcBef>
                <a:spcPts val="1500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Speaker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avel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ísař</a:t>
            </a:r>
            <a:endParaRPr b="0" lang="en-US" sz="2400" spc="-1" strike="noStrike">
              <a:solidFill>
                <a:srgbClr val="000000"/>
              </a:solidFill>
              <a:latin typeface="AdLib BT"/>
            </a:endParaRPr>
          </a:p>
          <a:p>
            <a:pPr marL="431640" indent="0" algn="ctr">
              <a:lnSpc>
                <a:spcPct val="91000"/>
              </a:lnSpc>
              <a:spcBef>
                <a:spcPts val="1500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BPhoenix</a:t>
            </a:r>
            <a:endParaRPr b="0" lang="en-US" sz="2400" spc="-1" strike="noStrike">
              <a:solidFill>
                <a:srgbClr val="000000"/>
              </a:solidFill>
              <a:latin typeface="AdLib BT"/>
            </a:endParaRPr>
          </a:p>
          <a:p>
            <a:pPr marL="431640" indent="0" algn="ctr">
              <a:lnSpc>
                <a:spcPct val="91000"/>
              </a:lnSpc>
              <a:spcBef>
                <a:spcPts val="1500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zech Republic</a:t>
            </a:r>
            <a:endParaRPr b="0" lang="en-US" sz="24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Comic Sans MS"/>
              </a:rPr>
              <a:t>Quality is an unusual attribute</a:t>
            </a:r>
            <a:endParaRPr b="1" lang="en-US" sz="44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63240" y="1592280"/>
            <a:ext cx="938988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7174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  <a:p>
            <a:pPr marL="717480"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  <a:p>
            <a:pPr marL="717480" indent="-60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AutoNum type="alphaU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rd to measure 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717480" indent="-60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AutoNum type="alphaU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ltimate quality is not really attainable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717480" indent="-60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AutoNum type="alphaU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ight question about quality is: </a:t>
            </a:r>
            <a:br>
              <a:rPr sz="2800"/>
            </a:b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Is the product good enough for particular purpose ?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7174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63600" y="1592280"/>
            <a:ext cx="919008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Lib BT"/>
                <a:ea typeface="HG Mincho Light J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Lib BT"/>
                <a:ea typeface="HG Mincho Light J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Because we can’t reach the ultimate quality, we use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  <a:ea typeface="HG Mincho Light J"/>
              </a:rPr>
              <a:t>process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to get to and stay as close to it as we c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Comic Sans MS"/>
              </a:rPr>
              <a:t>Quality Assurance Process</a:t>
            </a:r>
            <a:endParaRPr b="1" lang="en-US" sz="44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3600" y="1592280"/>
            <a:ext cx="919008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717480" indent="-60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d / identify an issue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er review, Code audit, Pre-release testing, Field testing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g reports</a:t>
            </a:r>
            <a:endParaRPr b="0" lang="en-US" sz="2400" spc="-1" strike="noStrike">
              <a:solidFill>
                <a:srgbClr val="000000"/>
              </a:solidFill>
              <a:latin typeface="AdLib BT"/>
            </a:endParaRPr>
          </a:p>
          <a:p>
            <a:pPr marL="717480" indent="-60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ke sure it will not get lost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blem tracking</a:t>
            </a:r>
            <a:endParaRPr b="0" lang="en-US" sz="2400" spc="-1" strike="noStrike">
              <a:solidFill>
                <a:srgbClr val="000000"/>
              </a:solidFill>
              <a:latin typeface="AdLib BT"/>
            </a:endParaRPr>
          </a:p>
          <a:p>
            <a:pPr marL="717480" indent="-60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x it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 cases, QA Certification</a:t>
            </a:r>
            <a:endParaRPr b="0" lang="en-US" sz="2400" spc="-1" strike="noStrike">
              <a:solidFill>
                <a:srgbClr val="000000"/>
              </a:solidFill>
              <a:latin typeface="AdLib BT"/>
            </a:endParaRPr>
          </a:p>
          <a:p>
            <a:pPr marL="717480" indent="-60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ke sure it will not appear again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gression test cases, Problem tracking</a:t>
            </a:r>
            <a:endParaRPr b="0" lang="en-US" sz="24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Comic Sans MS"/>
              </a:rPr>
              <a:t>Peer Review</a:t>
            </a:r>
            <a:endParaRPr b="1" lang="en-US" sz="40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3600" y="1592280"/>
            <a:ext cx="919008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nges in CVS are reviewed as they appear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rebird Foundation issued a grant to secure a dedicated person (Claudio Valderrama C.) to that task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rrently, only changes in core engine are reviewed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f you're interested to follow closely the development of particular subproject, we'd like encourage you to watch changes in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firebird-checkin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nd immediately report anything you'll find suspicious in appropriate mailing list or newsgroup.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Comic Sans MS"/>
              </a:rPr>
              <a:t>Code Audit</a:t>
            </a:r>
            <a:endParaRPr b="1" lang="en-US" sz="36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3600" y="1592280"/>
            <a:ext cx="919008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t’s just a form of Peer Review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QA method is very expensive in terms of human labour and required knowledge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t was done incrementally as the various engine subsystems were examined in the course of FB 1.5/2.0 development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The most complete code audit is realized in the course of Vulcan development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600" spc="-1" strike="noStrike">
                <a:solidFill>
                  <a:srgbClr val="000080"/>
                </a:solidFill>
                <a:latin typeface="Comic Sans MS"/>
              </a:rPr>
              <a:t>Development Test Cases / Unit tests</a:t>
            </a:r>
            <a:endParaRPr b="1" lang="en-US" sz="36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3240" y="1592280"/>
            <a:ext cx="946620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sed as a reference for development and bug fixing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it tests are used regularly in JayBird, .NET provider and ODBC driver development, but aren’t currently used in engine development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it tests for engine are good for “plumbing” checks only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'd like have unit tests for Firebird 3 / Vulcan code based on C++ XP Unit test framework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600" spc="-1" strike="noStrike">
                <a:solidFill>
                  <a:srgbClr val="000080"/>
                </a:solidFill>
                <a:latin typeface="Comic Sans MS"/>
              </a:rPr>
              <a:t>Automated Black-box Testing</a:t>
            </a:r>
            <a:endParaRPr b="1" lang="en-US" sz="36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3240" y="1592280"/>
            <a:ext cx="938988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7174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erification of correctness and limits of final product: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717480" indent="-6094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Correct input produce correct result.</a:t>
            </a:r>
            <a:endParaRPr b="0" lang="en-US" sz="2000" spc="-1" strike="noStrike">
              <a:solidFill>
                <a:srgbClr val="000000"/>
              </a:solidFill>
              <a:latin typeface="AdLib BT"/>
            </a:endParaRPr>
          </a:p>
          <a:p>
            <a:pPr marL="717480" indent="-6094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ncorrect input produce correct error result.</a:t>
            </a:r>
            <a:endParaRPr b="0" lang="en-US" sz="2000" spc="-1" strike="noStrike">
              <a:solidFill>
                <a:srgbClr val="000000"/>
              </a:solidFill>
              <a:latin typeface="AdLib BT"/>
            </a:endParaRPr>
          </a:p>
          <a:p>
            <a:pPr marL="717480" indent="-6094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Product reacts correctly to limit conditions and values (memory, disk space, file size, values at behaviour-switching boundary etc.)</a:t>
            </a:r>
            <a:endParaRPr b="0" lang="en-US" sz="2000" spc="-1" strike="noStrike">
              <a:solidFill>
                <a:srgbClr val="000000"/>
              </a:solidFill>
              <a:latin typeface="AdLib BT"/>
            </a:endParaRPr>
          </a:p>
          <a:p>
            <a:pPr marL="717480" indent="-6094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Product reacts correctly to unexpected conditions (power failure, low-memory, I/O error)</a:t>
            </a:r>
            <a:endParaRPr b="0" lang="en-US" sz="2000" spc="-1" strike="noStrike">
              <a:solidFill>
                <a:srgbClr val="000000"/>
              </a:solidFill>
              <a:latin typeface="AdLib BT"/>
            </a:endParaRPr>
          </a:p>
          <a:p>
            <a:pPr marL="717480" indent="-6094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Consistency. Test results from 1)-4) are consistent in time and with different order of execution. This also means concurrency tests.</a:t>
            </a:r>
            <a:endParaRPr b="0" lang="en-US" sz="2000" spc="-1" strike="noStrike">
              <a:solidFill>
                <a:srgbClr val="000000"/>
              </a:solidFill>
              <a:latin typeface="AdLib BT"/>
            </a:endParaRPr>
          </a:p>
          <a:p>
            <a:pPr marL="717480" indent="-6094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Usability (performance, ergonomy etc.)</a:t>
            </a:r>
            <a:endParaRPr b="0" lang="en-US" sz="2000" spc="-1" strike="noStrike">
              <a:solidFill>
                <a:srgbClr val="000000"/>
              </a:solidFill>
              <a:latin typeface="AdLib BT"/>
            </a:endParaRPr>
          </a:p>
          <a:p>
            <a:pPr marL="7174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800" spc="-1" strike="noStrike">
              <a:solidFill>
                <a:srgbClr val="000000"/>
              </a:solidFill>
              <a:latin typeface="AdLib BT"/>
            </a:endParaRPr>
          </a:p>
          <a:p>
            <a:pPr marL="7174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Comic Sans MS"/>
              </a:rPr>
              <a:t>Whenever possible, automated test system is used for 1), 2), 3) and 5) tests. 4) and 6) usually depends completely on manual labour. </a:t>
            </a:r>
            <a:endParaRPr b="0" lang="en-US" sz="20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vel Cisar</cp:lastModifiedBy>
  <dcterms:modified xsi:type="dcterms:W3CDTF">2005-11-11T10:47:12Z</dcterms:modified>
  <cp:revision>26</cp:revision>
  <dc:subject/>
  <dc:title>Introduction</dc:title>
</cp:coreProperties>
</file>