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15B1-1312-4FAC-9074-02D7AE8B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3248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8FFB-8339-4921-AC97-7F9DE800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324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324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B3C-8DE9-434C-A323-C0AF6B68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324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324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324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E41B-0EF6-44BE-BE93-D4DEB46D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AA5A-72D8-4956-A316-88E94FF1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48D-089E-42AC-BCFC-D0F5B86B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4715-6396-4CED-ADE9-F22B0E68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1AA-3023-42F8-A71C-402A939B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2EB-ABE6-4B02-A0C8-549D4BD6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324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323-EA2E-45AB-B761-FE74F562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324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069-D486-4EAA-9ACC-1DA2FCB3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3248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AAB8-F0B9-4DF1-A7E9-91973F57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Click to edit the title text format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Click to edit the outline text format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343080" indent="-343080">
              <a:spcBef>
                <a:spcPts val="601"/>
              </a:spcBef>
              <a:buClr>
                <a:srgbClr val="014b11"/>
              </a:buClr>
              <a:buFont typeface="AvantGar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econd Outline Level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2" marL="343080" indent="-343080">
              <a:spcBef>
                <a:spcPts val="601"/>
              </a:spcBef>
              <a:buClr>
                <a:srgbClr val="014b11"/>
              </a:buClr>
              <a:buFont typeface="AvantGar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ird Outline Level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3" marL="343080" indent="-343080">
              <a:spcBef>
                <a:spcPts val="601"/>
              </a:spcBef>
              <a:buClr>
                <a:srgbClr val="014b11"/>
              </a:buClr>
              <a:buFont typeface="AvantGar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Fourth Outline Level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4" marL="343080" indent="-343080">
              <a:spcBef>
                <a:spcPts val="601"/>
              </a:spcBef>
              <a:buClr>
                <a:srgbClr val="014b11"/>
              </a:buClr>
              <a:buFont typeface="AvantGar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Fifth Outline Level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ixth Outline Level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eventh Outline Level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AB5E-CF9C-444C-9C57-E3DF75988AF4}" type="datetime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6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52920" y="617220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C65A-3DA4-472F-8D6C-488703E2F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467480" y="5410080"/>
            <a:ext cx="1003320" cy="100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Options and tuning of Vulcan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Jim Starkey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Netfrastructure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jas@netfrastructure.com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The Vulcan architecture: providers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Providers are defined in the configuration file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Each provider configuration ha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Library (or libraries) that contain cod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Default security policy for provider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uning (ugh!) parameters</a:t>
            </a:r>
            <a:br>
              <a:rPr sz="2400"/>
            </a:b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Vulcan Configuration: Provider Example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b11"/>
                </a:solidFill>
                <a:latin typeface="Courier New"/>
              </a:rPr>
              <a:t>&lt;provider engine11&gt;</a:t>
            </a:r>
            <a:br>
              <a:rPr sz="2400"/>
            </a:br>
            <a:r>
              <a:rPr b="1" lang="en-US" sz="2400" spc="-1" strike="noStrike">
                <a:solidFill>
                  <a:srgbClr val="014b1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4b11"/>
                </a:solidFill>
                <a:latin typeface="Courier New"/>
              </a:rPr>
              <a:t>LockFileName</a:t>
            </a:r>
            <a:r>
              <a:rPr b="1" lang="en-US" sz="2400" spc="-1" strike="noStrike">
                <a:solidFill>
                  <a:srgbClr val="014b1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4b11"/>
                </a:solidFill>
                <a:latin typeface="Courier New"/>
              </a:rPr>
              <a:t>$(root)/vulcan.lck</a:t>
            </a:r>
            <a:br>
              <a:rPr sz="2400"/>
            </a:br>
            <a:r>
              <a:rPr b="1" lang="en-US" sz="2400" spc="-1" strike="noStrike">
                <a:solidFill>
                  <a:srgbClr val="014b11"/>
                </a:solidFill>
                <a:latin typeface="Courier New"/>
              </a:rPr>
              <a:t>   library</a:t>
            </a:r>
            <a:r>
              <a:rPr b="1" lang="en-US" sz="2400" spc="-1" strike="noStrike">
                <a:solidFill>
                  <a:srgbClr val="014b1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4b1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4b11"/>
                </a:solidFill>
                <a:latin typeface="Courier New"/>
              </a:rPr>
              <a:t>$(root)/bin/engine11 $(root)/bin64/engine11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b11"/>
                </a:solidFill>
                <a:latin typeface="Courier New"/>
              </a:rPr>
              <a:t>&lt;/provider&gt;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Vulcan Configuration: Database Object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Defines a class of database name strings (wildcards)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Remap database name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pecifies a list of possible providers (first hit wins)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Options on database override options on provider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Vulcan Configuration: Database Examples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b11"/>
                </a:solidFill>
                <a:latin typeface="Courier New"/>
              </a:rPr>
              <a:t>&lt;database *:*&gt;</a:t>
            </a:r>
            <a:br>
              <a:rPr sz="2000"/>
            </a:br>
            <a:r>
              <a:rPr b="1" lang="en-US" sz="2000" spc="-1" strike="noStrike">
                <a:solidFill>
                  <a:srgbClr val="014b11"/>
                </a:solidFill>
                <a:latin typeface="Courier New"/>
              </a:rPr>
              <a:t>    filename    $0</a:t>
            </a:r>
            <a:br>
              <a:rPr sz="2000"/>
            </a:br>
            <a:r>
              <a:rPr b="1" lang="en-US" sz="2000" spc="-1" strike="noStrike">
                <a:solidFill>
                  <a:srgbClr val="014b11"/>
                </a:solidFill>
                <a:latin typeface="Courier New"/>
              </a:rPr>
              <a:t>    provider    remote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b11"/>
                </a:solidFill>
                <a:latin typeface="Courier New"/>
              </a:rPr>
              <a:t>&lt;/database&gt;</a:t>
            </a:r>
            <a:br>
              <a:rPr sz="2000"/>
            </a:br>
            <a:r>
              <a:rPr b="1" lang="en-US" sz="2000" spc="-1" strike="noStrike">
                <a:solidFill>
                  <a:srgbClr val="014b11"/>
                </a:solidFill>
                <a:latin typeface="Courier New"/>
              </a:rPr>
              <a:t> 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b11"/>
                </a:solidFill>
                <a:latin typeface="Courier New"/>
              </a:rPr>
              <a:t>&lt;database eng8#*&gt;</a:t>
            </a:r>
            <a:br>
              <a:rPr sz="2000"/>
            </a:br>
            <a:r>
              <a:rPr b="1" lang="en-US" sz="2000" spc="-1" strike="noStrike">
                <a:solidFill>
                  <a:srgbClr val="014b11"/>
                </a:solidFill>
                <a:latin typeface="Courier New"/>
              </a:rPr>
              <a:t>    filename    $1</a:t>
            </a:r>
            <a:br>
              <a:rPr sz="2000"/>
            </a:br>
            <a:r>
              <a:rPr b="1" lang="en-US" sz="2000" spc="-1" strike="noStrike">
                <a:solidFill>
                  <a:srgbClr val="014b11"/>
                </a:solidFill>
                <a:latin typeface="Courier New"/>
              </a:rPr>
              <a:t>    provider    engine8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b11"/>
                </a:solidFill>
                <a:latin typeface="Courier New"/>
              </a:rPr>
              <a:t>&lt;/database&gt;</a:t>
            </a:r>
            <a:br>
              <a:rPr sz="2000"/>
            </a:br>
            <a:r>
              <a:rPr b="1" lang="en-US" sz="2000" spc="-1" strike="noStrike">
                <a:solidFill>
                  <a:srgbClr val="014b11"/>
                </a:solidFill>
                <a:latin typeface="Courier New"/>
              </a:rPr>
              <a:t> 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b11"/>
                </a:solidFill>
                <a:latin typeface="Courier New"/>
              </a:rPr>
              <a:t>&lt;database *&gt;</a:t>
            </a:r>
            <a:br>
              <a:rPr sz="2000"/>
            </a:br>
            <a:r>
              <a:rPr b="1" lang="en-US" sz="2000" spc="-1" strike="noStrike">
                <a:solidFill>
                  <a:srgbClr val="014b11"/>
                </a:solidFill>
                <a:latin typeface="Courier New"/>
              </a:rPr>
              <a:t>    filename    $0</a:t>
            </a:r>
            <a:br>
              <a:rPr sz="2000"/>
            </a:br>
            <a:r>
              <a:rPr b="1" lang="en-US" sz="2000" spc="-1" strike="noStrike">
                <a:solidFill>
                  <a:srgbClr val="014b11"/>
                </a:solidFill>
                <a:latin typeface="Courier New"/>
              </a:rPr>
              <a:t>    provider    engine11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b11"/>
                </a:solidFill>
                <a:latin typeface="Courier New"/>
              </a:rPr>
              <a:t>&lt;/database&gt;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Vulcan Configuration Files: Summary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Designed for invisibility unless needed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Chained files allow easy delegation of management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Upwards compatible from Firebird 2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Open ended, flexible, and extensible (no hard wires)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Questions?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Options and tuning: general philosophy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I hate option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I hate tuning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I hate configuration management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You should tell us “Please do it right so I can think about my problem, not yours.”</a:t>
            </a:r>
            <a:br>
              <a:rPr sz="2400"/>
            </a:b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However, …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One size doesn’t always fit everyon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Different installations have different policies and requirement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Flexibility is good if you can ignore it until you need it</a:t>
            </a:r>
            <a:br>
              <a:rPr sz="2400"/>
            </a:b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Configuration goals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I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nvisible until you need it 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75% of all installations ignore it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e rest can ignore it until they know they need it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ystem wide default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pecific databases can override default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Configuration management can be delegated to groups or user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Firebird 2 configuration files can be included for system default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Nothing is hard-wired</a:t>
            </a:r>
            <a:br>
              <a:rPr sz="2400"/>
            </a:b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High level options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Mapping database names to server and file name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Embedded or server acces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ecurity policy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Authentication in target database or security databas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Finding the security database (or databases)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Gateways to legacy Firebird or Interbas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System configuration files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Client.conf 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client side configuration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erver.conf 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erver side configuration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Master.conf 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tuff common to client and server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Databases.conf 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pecial, known database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User and application configuration files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In order of search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$VULCAN_CONF (environmental variable)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Vulcan.conf (in working directory)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~/.vulcan.conf (in home directory on Posix systems)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Client.conf in installation directory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Note: Files can be daisy chained with “include”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Installation configuration files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Default Configuration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Database name is database file nam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Default access is through local server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Access control is by security databas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ecurity database: “security.fdb” in installation directory</a:t>
            </a:r>
            <a:br>
              <a:rPr sz="2400"/>
            </a:b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The Vulcan architecture: providers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A provider is a data access path.  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Examples are:</a:t>
            </a:r>
            <a:br>
              <a:rPr sz="2400"/>
            </a:b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e Vulcan database engine</a:t>
            </a:r>
            <a:br>
              <a:rPr sz="2400"/>
            </a:b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e remote server interface</a:t>
            </a:r>
            <a:br>
              <a:rPr sz="2400"/>
            </a:b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Gateways to legacy systems</a:t>
            </a:r>
            <a:br>
              <a:rPr sz="2400"/>
            </a:b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e services module</a:t>
            </a:r>
            <a:br>
              <a:rPr sz="2400"/>
            </a:b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27:53Z</dcterms:created>
  <dc:creator>Ann W. Harrison</dc:creator>
  <dc:description/>
  <dc:language>en-US</dc:language>
  <cp:lastModifiedBy>Ann Harrison</cp:lastModifiedBy>
  <dcterms:modified xsi:type="dcterms:W3CDTF">2005-11-13T20:11:41Z</dcterms:modified>
  <cp:revision>25</cp:revision>
  <dc:subject/>
  <dc:title>The Future of Firebird/InterBase</dc:title>
</cp:coreProperties>
</file>