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3600" y="429300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276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076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7920" y="159228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360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076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7920" y="4293000"/>
            <a:ext cx="295884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2680" y="657360"/>
            <a:ext cx="9277200" cy="36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2760" y="429300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2760" y="1592280"/>
            <a:ext cx="448452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3600" y="4293000"/>
            <a:ext cx="91900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0280" y="61920"/>
            <a:ext cx="7851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ssion: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ONN-A303-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king your own Firebird PowerTools with Python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peaker: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Pavel Císa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37640" y="7248600"/>
            <a:ext cx="114624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hancery L"/>
              </a:rPr>
              <a:t>Slide </a:t>
            </a:r>
            <a:fld id="{EA8B9F00-E6D7-4BD5-BBD8-62B1B243A692}" type="slidenum">
              <a:rPr b="0" lang="en-GB" sz="2000" spc="-1" strike="noStrike">
                <a:solidFill>
                  <a:srgbClr val="ffff00"/>
                </a:solidFill>
                <a:latin typeface="Chancery 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72320" y="7020000"/>
            <a:ext cx="23194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imes New Roman"/>
              </a:rPr>
              <a:t>IB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olsvill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2" marL="129528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3" marL="1727280" indent="-21600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4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5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lvl="6" marL="2158920" indent="-215640">
              <a:lnSpc>
                <a:spcPct val="101000"/>
              </a:lnSpc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Lib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king your own Firebird PowerTools with Python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avel Císa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BPhoe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63600" y="990360"/>
            <a:ext cx="9190080" cy="57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01000"/>
              </a:lnSpc>
              <a:spcBef>
                <a:spcPts val="225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I thank you for your attention.</a:t>
            </a:r>
            <a:endParaRPr b="0" lang="en-US" sz="36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3376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749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CON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A303-R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 / Making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rebird PowerTool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peaker: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ave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ísař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Phoenix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Bef>
                <a:spcPts val="15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zech Republic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240" y="587160"/>
            <a:ext cx="92790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3600" y="1591920"/>
            <a:ext cx="9191520" cy="51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2" marL="8888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Time sequ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werTool™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ign and Implementat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totype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re You Want To Go Today?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84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45000"/>
              <a:buFont typeface="Comic Sans M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HG Mincho Light J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57360"/>
            <a:ext cx="943128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omic Sans MS"/>
              </a:rPr>
              <a:t>Why We Don’t Have Any PowerTool, yet?</a:t>
            </a:r>
            <a:endParaRPr b="1" lang="en-US" sz="36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40104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 tool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29080" indent="-27576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ymbol" charset="2"/>
              <a:buChar char="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Flexible, but not very good for presentation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29080" indent="-27576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tarSymbo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powerful enough (ISQL) or Powerful, but outdated (QLI)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29080" indent="-27576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ymbol" charset="2"/>
              <a:buChar char="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for presentation, in-place changes and common task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29080" indent="-27576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tarSymbo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badly, Not very flexible, mostly Windows-only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-based tool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29080" indent="-27576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ymbol" charset="2"/>
              <a:buChar char="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atform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29080" indent="-275760">
              <a:lnSpc>
                <a:spcPct val="101000"/>
              </a:lnSpc>
              <a:spcAft>
                <a:spcPts val="1137"/>
              </a:spcAft>
              <a:buClr>
                <a:srgbClr val="ffffff"/>
              </a:buClr>
              <a:buSzPct val="69000"/>
              <a:buFont typeface="StarSymbo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rst from both worlds”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Comic Sans MS"/>
              </a:rPr>
              <a:t>PowerTool</a:t>
            </a:r>
            <a:r>
              <a:rPr b="1" lang="cs-CZ" sz="4400" spc="-1" strike="noStrike">
                <a:solidFill>
                  <a:srgbClr val="000080"/>
                </a:solidFill>
                <a:latin typeface="Comic Sans MS"/>
              </a:rPr>
              <a:t>™</a:t>
            </a:r>
            <a:r>
              <a:rPr b="1" lang="en-GB" sz="4400" spc="-1" strike="noStrike">
                <a:solidFill>
                  <a:srgbClr val="000080"/>
                </a:solidFill>
                <a:latin typeface="Comic Sans MS"/>
              </a:rPr>
              <a:t> Definition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platform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work with multiple databases simultaneously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ows easy data and metadata query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ows use of results from data nad metadata query as input for other action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tensible (internal model and actions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ld have various user interfaces (CLI, GUI, web-based, automation)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beddable in user applicatio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Comic Sans MS"/>
              </a:rPr>
              <a:t>Why Python ?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ultiplatform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Typed, bu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sy to lear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werful means to work with lists and dictionarie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ge code repository for almost anything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braries to build various user interfaces (CLI, GUI, web-based, automation)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asily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beddable in user application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Comic Sans MS"/>
              </a:rPr>
              <a:t>Basic PowerTool</a:t>
            </a:r>
            <a:r>
              <a:rPr b="1" lang="cs-CZ" sz="4400" spc="-1" strike="noStrike">
                <a:solidFill>
                  <a:srgbClr val="000080"/>
                </a:solidFill>
                <a:latin typeface="Comic Sans MS"/>
              </a:rPr>
              <a:t>™</a:t>
            </a:r>
            <a:r>
              <a:rPr b="1" lang="en-US" sz="4400" spc="-1" strike="noStrike">
                <a:solidFill>
                  <a:srgbClr val="000080"/>
                </a:solidFill>
                <a:latin typeface="Comic Sans MS"/>
              </a:rPr>
              <a:t> design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 of Classes to work with Data Model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adata encapsulation into object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uld be used independently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and Interpreter Class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defined commands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ilt-in Python Interpreter for direct work with Data Model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I Controler</a:t>
            </a:r>
            <a:endParaRPr b="0" lang="en-US" sz="2800" spc="-1" strike="noStrike">
              <a:solidFill>
                <a:srgbClr val="000000"/>
              </a:solidFill>
              <a:latin typeface="AdLib BT"/>
            </a:endParaRPr>
          </a:p>
          <a:p>
            <a:pPr lvl="1" marL="863640" indent="-28728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69000"/>
              <a:buFont typeface="Comic Sans MS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 console, GUI, Web-based</a:t>
            </a:r>
            <a:endParaRPr b="0" lang="en-US" sz="24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LI Prototype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n Action</a:t>
            </a:r>
            <a:endParaRPr b="1" lang="en-US" sz="6600" spc="-1" strike="noStrike">
              <a:solidFill>
                <a:srgbClr val="ffffff"/>
              </a:solidFill>
              <a:latin typeface="Cools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657360"/>
            <a:ext cx="9277200" cy="7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lnSpc>
                <a:spcPct val="101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4400" spc="-1" strike="noStrike">
                <a:solidFill>
                  <a:srgbClr val="000080"/>
                </a:solidFill>
                <a:latin typeface="Comic Sans MS"/>
              </a:rPr>
              <a:t>„</a:t>
            </a:r>
            <a:r>
              <a:rPr b="1" lang="en-GB" sz="4400" spc="-1" strike="noStrike">
                <a:solidFill>
                  <a:srgbClr val="000080"/>
                </a:solidFill>
                <a:latin typeface="Comic Sans MS"/>
              </a:rPr>
              <a:t>Where You Want To Go Today?</a:t>
            </a:r>
            <a:r>
              <a:rPr b="1" lang="cs-CZ" sz="4400" spc="-1" strike="noStrike">
                <a:solidFill>
                  <a:srgbClr val="000080"/>
                </a:solidFill>
                <a:latin typeface="Comic Sans MS"/>
              </a:rPr>
              <a:t>“</a:t>
            </a:r>
            <a:endParaRPr b="1" lang="en-US" sz="4400" spc="-1" strike="noStrike">
              <a:solidFill>
                <a:srgbClr val="ffffff"/>
              </a:solidFill>
              <a:latin typeface="Cools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and Enrich the Data Model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nds for common task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tilize Operator Overloading to simplify some tasks in built-in Python Interpreter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iguration and command-line options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atform GUI front-end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52000"/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it in standard Firebird distribution</a:t>
            </a:r>
            <a:endParaRPr b="0" lang="en-US" sz="32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63600" y="1592280"/>
            <a:ext cx="919008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  <a:p>
            <a:pPr marL="431640" indent="0" algn="ctr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Questions ? Comments ?</a:t>
            </a:r>
            <a:endParaRPr b="0" lang="en-US" sz="4800" spc="-1" strike="noStrike">
              <a:solidFill>
                <a:srgbClr val="000000"/>
              </a:solidFill>
              <a:latin typeface="AdLib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vel Cisar</cp:lastModifiedBy>
  <dcterms:modified xsi:type="dcterms:W3CDTF">2005-11-11T11:38:20Z</dcterms:modified>
  <cp:revision>33</cp:revision>
  <dc:subject/>
  <dc:title>Introduction</dc:title>
</cp:coreProperties>
</file>