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24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62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4"/>
          </p:nvPr>
        </p:nvSpPr>
        <p:spPr>
          <a:xfrm>
            <a:off x="-360" y="8685000"/>
            <a:ext cx="296244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5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18C56-1673-4940-8938-AC46B44101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4AD87-1BBD-46E0-A329-B0A245220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02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024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48680"/>
            <a:ext cx="822024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81386-2422-43CE-BFF2-E6AE04F25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02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112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200" y="1341360"/>
            <a:ext cx="401112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48680"/>
            <a:ext cx="401112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9200" y="3748680"/>
            <a:ext cx="401112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BA013-B56F-4267-8728-47C76C5BC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02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672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6760" y="1341360"/>
            <a:ext cx="264672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5960" y="1341360"/>
            <a:ext cx="264672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48680"/>
            <a:ext cx="264672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6760" y="3748680"/>
            <a:ext cx="264672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5960" y="3748680"/>
            <a:ext cx="264672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CE5BE-2AB8-43E5-BDEF-F966F621C1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02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024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6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ADE31-2CA9-443B-95D5-E4C0FBD686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02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024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2FA42-A317-45EA-93FD-F54EAFBA1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02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11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9200" y="1341360"/>
            <a:ext cx="40111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D0A68-B557-4C00-9A51-EE9115300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02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04F2D-BB9F-4D30-A6CE-C97AA226F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0240"/>
            <a:ext cx="82202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6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C3DDF-0FEA-405F-A1BC-F78062029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02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112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200" y="1341360"/>
            <a:ext cx="40111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48680"/>
            <a:ext cx="401112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00DC8-6956-4465-9F2A-575E858EA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02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11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200" y="1341360"/>
            <a:ext cx="401112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9200" y="3748680"/>
            <a:ext cx="401112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985B8-7E18-4CD0-92E9-F8B82E9A5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02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112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200" y="1341360"/>
            <a:ext cx="401112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48680"/>
            <a:ext cx="822024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F1E98-DC26-4CAC-AE7E-1046A7524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02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024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66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66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6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6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6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3720" y="6265440"/>
            <a:ext cx="2886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65440"/>
            <a:ext cx="21243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B7845-86D7-4CE2-80AC-D1075AEA94EC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ynamicdatabases.org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21603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100" spc="-1" strike="noStrike">
                <a:solidFill>
                  <a:srgbClr val="000000"/>
                </a:solidFill>
                <a:latin typeface="Arial"/>
              </a:rPr>
              <a:t>Dynamic Database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347920" y="310464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A Conceptual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7920" y="4005360"/>
            <a:ext cx="640080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auricio Long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ments of Dynamic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7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namic 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11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elds that can be added and removed from a dynamic table without this having a negative impact in the applications behavior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11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application does not directly reference this field but, in fact, looks up the table's “composition” and adjusts to what it finds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65800"/>
            <a:ext cx="289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6265800"/>
            <a:ext cx="213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22C4A-D915-4BCA-9F91-20A8FC1CAB33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ments of Dynamic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7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ic 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11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 most applications there will be fields that cannot be removed, even from dynamic tables, without breaking expected application behaviou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11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tic fields cannot be removed from even from a dynamic t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65800"/>
            <a:ext cx="289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6265800"/>
            <a:ext cx="213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23B33-6550-45B3-B2FB-D58281A37E23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ments of Dynamic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7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namic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11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most a pre-requisite for the existence of dynamic tables, since sequences are generally used to supply unique values for primary key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11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 order to ensure a uniform value-space for the primary key of a table a corresponding sequence may be creat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65800"/>
            <a:ext cx="289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6265800"/>
            <a:ext cx="213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42A6F-E6B5-40D7-A758-A033C4E26564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ments of Dynamic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7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namic Trig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11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st dynamic trigger definitions will, probably, compose  the definition of a dynamic table, since triggers are generally very dependent on fields of the table to which they are associat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11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t is also possible to have generic triggers that can be applied to several different tables maintaining a consistent behaviou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65800"/>
            <a:ext cx="289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6265800"/>
            <a:ext cx="213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56806-34AB-4425-A6FE-5AFE216B440D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ynamic Database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7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l 1 – Sample Account and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340000" y="1949400"/>
            <a:ext cx="4140000" cy="3809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124080" y="6265800"/>
            <a:ext cx="289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6265800"/>
            <a:ext cx="213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8CCF4-952F-4716-8C76-ACB525020A51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ynamic Database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7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l 2: Incorrect Dataset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2040" y="1979640"/>
            <a:ext cx="8427960" cy="3262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124080" y="6265800"/>
            <a:ext cx="289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6265800"/>
            <a:ext cx="213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B0A23-64DA-47B7-879F-9DD366AA6E2A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ynamic Database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7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l 3 – Simple model considering different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92080" y="2340000"/>
            <a:ext cx="7452000" cy="2700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124080" y="6265800"/>
            <a:ext cx="289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6265800"/>
            <a:ext cx="213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7A85F-FE21-400F-8C6D-44CEAEAE51D0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ynamic Database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7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l 4 – Client information objects created from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59280" y="2519280"/>
            <a:ext cx="2521080" cy="10810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3425"/>
              <a:gd name="adj6" fmla="val -46296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ynamic objects created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template associated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th the “Client” directory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65800"/>
            <a:ext cx="289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6265800"/>
            <a:ext cx="213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92D5E-7A77-4545-A460-1DEE12E438D6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60360" y="3824280"/>
            <a:ext cx="5940720" cy="2227320"/>
          </a:xfrm>
          <a:prstGeom prst="roundRect">
            <a:avLst>
              <a:gd name="adj" fmla="val 6574"/>
            </a:avLst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508040" y="2340000"/>
            <a:ext cx="1100160" cy="117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141720" y="4290840"/>
            <a:ext cx="1609560" cy="1379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184720" y="4079880"/>
            <a:ext cx="1793880" cy="1798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508040" y="4394160"/>
            <a:ext cx="1346400" cy="1170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878200" y="5010120"/>
            <a:ext cx="247680" cy="144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68920" y="5010120"/>
            <a:ext cx="385560" cy="144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16000" y="3502080"/>
            <a:ext cx="1800" cy="23004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81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ynamic Object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816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Sets are associated with individual rows of the Directory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60480" y="3941640"/>
            <a:ext cx="5521320" cy="2070360"/>
          </a:xfrm>
          <a:prstGeom prst="roundRect">
            <a:avLst>
              <a:gd name="adj" fmla="val 6574"/>
            </a:avLst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22600" y="3803760"/>
            <a:ext cx="5519520" cy="2070000"/>
          </a:xfrm>
          <a:prstGeom prst="roundRect">
            <a:avLst>
              <a:gd name="adj" fmla="val 6574"/>
            </a:avLst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84360" y="3665520"/>
            <a:ext cx="5521320" cy="2070000"/>
          </a:xfrm>
          <a:prstGeom prst="roundRect">
            <a:avLst>
              <a:gd name="adj" fmla="val 6574"/>
            </a:avLst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812960" y="2286000"/>
            <a:ext cx="1022400" cy="1087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332160" y="4098960"/>
            <a:ext cx="1495440" cy="1281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230800" y="3903840"/>
            <a:ext cx="1666800" cy="1671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1812960" y="4195800"/>
            <a:ext cx="1251000" cy="1087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87720" y="4767120"/>
            <a:ext cx="230040" cy="180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44880" y="4767120"/>
            <a:ext cx="358920" cy="180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65800"/>
            <a:ext cx="289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6265800"/>
            <a:ext cx="213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83BF6-C317-466B-96F9-E45DD6846DBC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3394080"/>
            <a:ext cx="1440" cy="23004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r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22200"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ssage Queue implementation using Firebird and Dynamic Database Concep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22200"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Dynamic Database concepts basic implemen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22200"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re sophisticated implementations possible, using a more robust Dynamic Database implemen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756AE-3367-4941-990A-5C78727FB9A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280" y="179280"/>
            <a:ext cx="907272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oday's 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477440"/>
            <a:ext cx="83167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93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3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9A097-44E2-4D4D-8900-E3C4A347F8D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r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22200"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80000" y="1440000"/>
            <a:ext cx="1800360" cy="900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3425"/>
              <a:gd name="adj6" fmla="val -46296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iggers ensur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sist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498680" y="1800360"/>
            <a:ext cx="4081320" cy="423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9030E-BB30-4C4A-B465-5943319DA5C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r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22200"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1000"/>
              </a:lnSpc>
              <a:spcBef>
                <a:spcPts val="700"/>
              </a:spcBef>
              <a:buClr>
                <a:srgbClr val="c73f27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ynamic creation of events – matching dynamic table names – provide a mechanism for application notification of new messag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1000"/>
              </a:lnSpc>
              <a:spcBef>
                <a:spcPts val="700"/>
              </a:spcBef>
              <a:buClr>
                <a:srgbClr val="c73f27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ynamic creation of triggers – associated with the created dynamic queue tables obtain message ids from dynamic created sequences and raise events on message inser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63E9C-1228-4C95-BC09-1A6D06DE63A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11394-8AFD-479A-A29C-8A549EF32DD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ynamic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22200"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uricio Lon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longo AT dynamicdatabases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dynamicdatabases.org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E0F8E-373F-4ECE-9F6B-6FAC27D03349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oday's 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exibility – User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1000"/>
              </a:lnSpc>
              <a:spcBef>
                <a:spcPts val="1276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reating a database for professional applications has long been the domain of Database Administrators and software developers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1000"/>
              </a:lnSpc>
              <a:spcBef>
                <a:spcPts val="711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pplications that allow the end user to work with databases, such as Microsoft Access, do exist, they tend to have severe limitations in architectu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1000"/>
              </a:lnSpc>
              <a:spcBef>
                <a:spcPts val="711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ew applications have pioneered a new idea - empowering the  users to alter the database definition, in a dynamic manner. (Ex. Microsoft's Sharepoint Windows Services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F1121-52AC-4934-BB2C-42FC99D9FF9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oday's 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1000"/>
              </a:lnSpc>
              <a:spcBef>
                <a:spcPts val="711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 the number of users of Internet based systems continually increases, traditional database design makes the database server a likely performance bottleneck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1000"/>
              </a:lnSpc>
              <a:spcBef>
                <a:spcPts val="711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 data that have the same characteristics are placed in the same storage structure – normally a table or a set of tabl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1000"/>
              </a:lnSpc>
              <a:spcBef>
                <a:spcPts val="711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t is more and more common for such systems to have tables with millions of row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65800"/>
            <a:ext cx="289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6265800"/>
            <a:ext cx="213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527AE-7A3C-47E6-AB26-CB5F22A21E6F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oday's 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ommon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ivision of data storage in a dynamic manner in response to actual data semantic meaning or ownershi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65800"/>
            <a:ext cx="289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6265800"/>
            <a:ext cx="213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22AA9-7B23-4064-B007-44D769D855B5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a Dynamic Databa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22200">
              <a:lnSpc>
                <a:spcPct val="93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ynamic databases are self-modifying databases, that alter themselves in response to user actions, such as the insertion of rows into a table, allowing for an unprecedented level of flexibi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65800"/>
            <a:ext cx="289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6265800"/>
            <a:ext cx="213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C1F3D-04D4-4DAA-9D88-8FD7BADD9CC0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ments of Dynamic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7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rectory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11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moment when objects need to be created is defined by the use of a special kind of table, called a directory t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11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en a new row is added to a directory table, one or more dynamic objects are created in respons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11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ynamic objects are deleted when the corresponding row is deleted from the directory t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65800"/>
            <a:ext cx="289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6265800"/>
            <a:ext cx="213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43540-3A85-461A-A5ED-A65066534E66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ments of Dynamic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7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1000"/>
              </a:lnSpc>
              <a:spcBef>
                <a:spcPts val="700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ored definitions (models) for the creation of dynamic database obje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65800"/>
            <a:ext cx="289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6265800"/>
            <a:ext cx="213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FE05A-6300-49F2-949A-706E0C896D3B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ments of Dynamic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7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namic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ables created in response to user input into a Directory Tabl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reated from a stored templat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65800"/>
            <a:ext cx="289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6265800"/>
            <a:ext cx="213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715CC-049A-4615-9A79-84CCBDEBBCBC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