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0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084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04B5D-D734-4E8E-977D-DEC78E2FD3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FF20-88C9-4FFA-AA8A-44D1C5195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-3024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21844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748680"/>
            <a:ext cx="821844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347D-2B4A-44A9-AB01-BEEFCCE60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-3024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0104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1341360"/>
            <a:ext cx="40104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748680"/>
            <a:ext cx="40104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120" y="3748680"/>
            <a:ext cx="40104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9552-D27D-4B15-9DA5-370B19D8A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-3024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26460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5680" y="1341360"/>
            <a:ext cx="26460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4160" y="1341360"/>
            <a:ext cx="26460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748680"/>
            <a:ext cx="26460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5680" y="3748680"/>
            <a:ext cx="26460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4160" y="3748680"/>
            <a:ext cx="26460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B343-1519-489F-A8ED-5DC7D9F2E1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-3024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4136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E94A-3386-44EA-AC3E-D189D041B0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-3024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9367-DF28-4759-846D-7C6D852BB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-3024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0104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120" y="1341360"/>
            <a:ext cx="40104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4196-DFAB-4E0B-8C47-C8AADC1C5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3024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9467-767E-4A99-A312-BDB8014EC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-3024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6315-DE64-4C88-9EFA-4D0BF2143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024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0104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120" y="1341360"/>
            <a:ext cx="40104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748680"/>
            <a:ext cx="40104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01F6-C032-47D5-8D7F-1F80B38D0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-3024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0104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341360"/>
            <a:ext cx="40104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120" y="3748680"/>
            <a:ext cx="40104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7853-8F66-4DF8-8DDF-9750D0CDE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3024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0104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341360"/>
            <a:ext cx="401040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748680"/>
            <a:ext cx="8218440" cy="21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2449-BDF5-4413-A8F8-5A999D690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3024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4136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3720" y="6265440"/>
            <a:ext cx="2884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65440"/>
            <a:ext cx="21225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B8AA6-E857-4FC0-8A32-87A070FF2038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ynamicdatabases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21603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100" spc="-1" strike="noStrike">
                <a:solidFill>
                  <a:srgbClr val="000000"/>
                </a:solidFill>
                <a:latin typeface="Arial"/>
              </a:rPr>
              <a:t>FireQ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47920" y="3105000"/>
            <a:ext cx="6400800" cy="9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irebird based messaging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7920" y="4140360"/>
            <a:ext cx="6400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uricio Long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41360"/>
            <a:ext cx="82296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database that alters itself, thus creating the necessary structures to support the sending/receiving  messages to/from the que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6B27-B831-4F30-940C-CA7B744713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 -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341360"/>
            <a:ext cx="822960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lti-platform server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lti-platform clien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ero deployment for clients who already use Firebir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ansac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4401-C8F9-4463-8DF5-91820A72367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34136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1440000"/>
            <a:ext cx="1800360" cy="900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296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iggers ensur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ist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98680" y="1800360"/>
            <a:ext cx="4081320" cy="42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FB68-F7F4-491D-B975-C656468CF2D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341360"/>
            <a:ext cx="822960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6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Dynamic creation of events – matching dynamic table names – provide a mechanism for application notification of new messages (through triggers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6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Dynamic creation of triggers – associated with the created dynamic queue tables obtain message ids from dynamic created sequences and raise events on message inser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6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Generic stored procedures – that generate commands and executes them through the EXECUTE STATEMENT comm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C3D0-D23D-48E5-8687-FC7DC9E8C19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77760"/>
            <a:ext cx="8220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02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FireQ Queue creation templ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_SEED       BIGINT NOT NUL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_TIMESTAMP  TIMESTAMP NOT NUL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R_FIELD1   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R_FIELD2   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R_FIELD3   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R_FIELD4   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R_FIELD5   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R_FIELD6   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SG_CLASS     BIGINT NOT NUL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ORITY      SMALLINT NOT NU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4981F-BCAE-4C63-A0ED-19D5293D4F0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341360"/>
            <a:ext cx="8229600" cy="44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FireQ queue table trig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TRIGGER QUEUE_MODEL_SETID FOR QUEUE_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E BEFORE INSERT POSITION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W.id_seed = gen_id(QUEUE_MODEL_GEN, 1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W.id_timestamp = current_timesta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5D84-6540-476F-ADE7-995DA53467B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 – P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024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ireQ Post function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TERM ^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 PROCEDURE POST (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UEUE_NAME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R_FIELD1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R_FIELD2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R_FIELD3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R_FIELD4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R_FIELD5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R_FIELD6 VARCHAR(250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SG_CLASS BIGIN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ORITY SMALLI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5433-F92B-4A91-A284-4B77F4B5775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 – P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0240" cy="62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ireQ Post function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CLARE VARIABLE SQL_CMD VARCHAR(3200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3000"/>
              </a:lnSpc>
              <a:spcBef>
                <a:spcPts val="799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QL_CMD = 'INSERT INTO ' || QUEUE_NAME || ' (USR_FIELD1, USR_FIELD2, USR_FIELD3,'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3000"/>
              </a:lnSpc>
              <a:spcBef>
                <a:spcPts val="799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QL_CMD = SQL_CMD || 'USR_FIELD4, USR_FIELD5, USR_FIELD6, MSG_CLASS, PRIORITY)'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3000"/>
              </a:lnSpc>
              <a:spcBef>
                <a:spcPts val="799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QL_CMD = SQL_CMD || 'VALUES (''' || :USR_FIELD1 || ''', ''' || :USR_FIELD2 || ''', ''' || :USR_FIELD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3000"/>
              </a:lnSpc>
              <a:spcBef>
                <a:spcPts val="799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QL_CMD = SQL_CMD || ''', ''' || :USR_FIELD4 ||''', ''' || :USR_FIELD5 || ''', ''' || :USR_FIELD6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3000"/>
              </a:lnSpc>
              <a:spcBef>
                <a:spcPts val="799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QL_CMD = SQL_CMD || ''', ''' || :MSG_CLASS ||''', ''' || :PRIORITY || ''');'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3000"/>
              </a:lnSpc>
              <a:spcBef>
                <a:spcPts val="799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3000"/>
              </a:lnSpc>
              <a:spcBef>
                <a:spcPts val="799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E549-7446-4166-9F32-D306051BE54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 – P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02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ireQ Post function imple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3000"/>
              </a:lnSpc>
              <a:spcBef>
                <a:spcPts val="799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ECUTE STATEMENT SQL_CM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ST_EVENT 'QUEUE_MODIFIED_' || :queue_nam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spen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3000"/>
              </a:lnSpc>
              <a:spcBef>
                <a:spcPts val="799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3000"/>
              </a:lnSpc>
              <a:spcBef>
                <a:spcPts val="799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9858-7795-4C67-901D-73BD9776A8B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 – Reviewing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02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platf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3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bles, triggers and other objects are created dynamically based on Dynamic Database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6157-C7D4-4F25-9EA9-66F7082B55D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280" y="179280"/>
            <a:ext cx="907272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tributed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477440"/>
            <a:ext cx="8316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a distributed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 tier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sely couple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B3D1-6552-4AE0-B18B-3C75B1AAFDB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44B2-6B58-44A1-8E9F-D7D11E9A2D1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uricio Lon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longo AT dynamicdatabases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dynamicdatabases.or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F5B4A-DD80-4F06-BB95-CE33F7916147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" y="179280"/>
            <a:ext cx="907272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tributed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477440"/>
            <a:ext cx="8316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92705-ADC4-4857-9EEA-E4E43BA8F3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7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ex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e of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ing what you would not d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le to handle large quantitie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B435-D3A4-4DA3-AED2-01D539C19F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7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ing softwa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croso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nent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x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bm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8ABF-8160-4EA7-B544-3AE4652A41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ssaging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7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rosoft microso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availble on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ge client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581D2-E82F-4219-B041-6A245FA10A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onent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7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undled on Borland'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xS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bm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62000"/>
              </a:lnSpc>
              <a:spcBef>
                <a:spcPts val="700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y to use for sophisticate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ces de developer to understand new components and their utilization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085F5-A10F-4DF5-B747-0B7B40CAA2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7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/No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ia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6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 foot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c73f27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6060-91BE-40EC-A695-5505C8FA9C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341360"/>
            <a:ext cx="8229600" cy="41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oject that is still star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ssage Queue implementation using Firebird and Dynamic Database Concep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urrently uses a very basic implementation of the  Dynamic Database concep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20760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Clr>
                <a:srgbClr val="c73f27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re sophisticated implementations possible, using a more robust Dynamic Database implemen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3AE71-0925-49DF-B58F-6507FC7916E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uricio Longo</cp:lastModifiedBy>
  <cp:revision>0</cp:revision>
  <dc:subject/>
  <dc:title/>
</cp:coreProperties>
</file>